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6.jpeg" ContentType="image/jpeg"/>
  <Override PartName="/ppt/media/image60.png" ContentType="image/png"/>
  <Override PartName="/ppt/media/image40.png" ContentType="image/png"/>
  <Override PartName="/ppt/media/image19.jpeg" ContentType="image/jpeg"/>
  <Override PartName="/ppt/media/image25.png" ContentType="image/png"/>
  <Override PartName="/ppt/media/image16.png" ContentType="image/png"/>
  <Override PartName="/ppt/media/image7.jpeg" ContentType="image/jpeg"/>
  <Override PartName="/ppt/media/image20.png" ContentType="image/png"/>
  <Override PartName="/ppt/media/image57.png" ContentType="image/png"/>
  <Override PartName="/ppt/media/image47.png" ContentType="image/png"/>
  <Override PartName="/ppt/media/image28.png" ContentType="image/png"/>
  <Override PartName="/ppt/media/image50.wmf" ContentType="image/x-wmf"/>
  <Override PartName="/ppt/media/image1.jpeg" ContentType="image/jpeg"/>
  <Override PartName="/ppt/media/image21.png" ContentType="image/png"/>
  <Override PartName="/ppt/media/image58.png" ContentType="image/png"/>
  <Override PartName="/ppt/media/image30.png" ContentType="image/png"/>
  <Override PartName="/ppt/media/image10.jpeg" ContentType="image/jpeg"/>
  <Override PartName="/ppt/media/image14.png" ContentType="image/png"/>
  <Override PartName="/ppt/media/image63.png" ContentType="image/png"/>
  <Override PartName="/ppt/media/image62.png" ContentType="image/png"/>
  <Override PartName="/ppt/media/image2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17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4.jpeg" ContentType="image/jpeg"/>
  <Override PartName="/ppt/media/image51.png" ContentType="image/png"/>
  <Override PartName="/ppt/media/image5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497D-4616-4832-BA43-C56C4AE89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E905-39B7-48A9-89E1-7A46B4B371D8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очему не все дети-инвалиды получают соцпособ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фактическое проживание за пределами автономного окр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ие факта совместного проживания родителя с ребенком по сведениям органов регистрационного уч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D903-CC00-41C0-BE0B-C1A552344F66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806B-528F-48A1-B73A-3F8E76F4AE18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C0DC-6C0B-4E40-8868-F6B1BBC3F08A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0479-D22D-451B-B720-B0DDF195B439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B79-966B-48CC-85AB-884CC5CB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814-E8E1-4430-A40B-3B846E70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385-EE94-40BF-841A-BA69AB5F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08F-055E-4BF1-BCF1-947536C8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728E-2890-480D-AE46-F48FC493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0A3B-898C-4449-884D-6F3D5E5A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36E6-A124-4B45-9E8B-6DC6603C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18FA-1E56-4B6E-BBDD-92313F3F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DFE2-77CE-44BA-A1EE-5EFBAF0A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B8C8-905B-48B5-8CAC-0CFA172D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4536-977C-4195-AFB1-F56EFE4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BC6-2B26-404C-8BB8-ED6F309B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5C8E-5E26-43AD-BCA0-3CFB38F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A1F7-D943-40E9-A58F-0BC1594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EDAB-FBAD-4624-8364-021B58CC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2C5C-90B9-48DC-AB2F-FB4B5954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9EB1-B32D-4764-84EA-A3E3DEF9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853E-C7B8-4E3F-B291-4A8B750C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9E98-FD56-4E63-B3E9-1B7BC48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10F5-2054-4892-B148-FE2D5DA6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CD59-5627-4E60-8D8B-396DEAA6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0616B-2BA5-49AA-8322-29ED13D2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B1F-09F2-4630-BCF9-D1E471C6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AC484-ADF5-4E42-B6CE-54B3793C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D20FE-68C7-45AE-9AD5-F0B28BB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B8A3-8566-47EF-8DD3-66E2349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4D98-0DE9-4E2A-B87E-01AC291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D88F-89B7-42B3-A118-0966F3E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5814-8CDE-4D76-9BA7-9B646DC0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FB23-2322-4BB7-9477-151752C8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56B2E-7AA8-4DA9-A7B5-D0E341A6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4F3FD-4D84-4AC6-A05B-8AE28D83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2F83-58C7-47DF-AFAC-96CBCD5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CBD-CE14-4E45-94DE-9662414F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9BC9-87C6-487F-9E9C-A3A73A39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CC4A-816F-4ED5-9681-ED4E5036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7A06-E5DD-4D8A-A6C3-B650B06F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8911-26CC-4BA4-85C6-A13D0F4B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9EBD6-5A0E-4BF3-967D-B5A17ABE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B4BC-94B7-4257-87F6-2AD0931E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E0091-852C-41FB-94FD-E82D4387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4C9E-3165-4547-BE1C-1693F8D0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5262-87BC-496A-ABA9-7623C88D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AF731-1664-44AE-8538-847BB221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060-D6F8-44ED-B2AA-39FF1F90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1BFA3-7125-43E7-AC79-9CADAA24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80DE5-F567-4475-8ADD-546191C1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3109E-5AEB-44F8-96BD-73112802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8B6B8-45EC-4D5C-BFDD-1D648DF6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8733-E7F4-433F-983C-60B5B620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8A9C7-A73A-4AB5-ABE2-466D86AB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9DEB6-A8EF-4B68-B2DF-D252883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25D28-FA71-41FF-810D-F703D33A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B8DC-F561-4756-961C-6B7847C6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68335-87C7-47A2-A6E5-2BC682D7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278-CB1B-47DA-A0D0-819150E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D8B79-11A8-4337-99ED-600E31A1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CBE-95AF-4503-9807-AC371778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878-E280-463B-BEBD-AA412FD3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4C3-CA35-4EB8-B85C-7FD8D7BB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20A2-2BE6-43DA-AB2F-DD7D11199296}" type="slidenum">
              <a:rPr b="0" lang="en-US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F1C4-A7AD-4E28-B546-D0AF9D5323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5DB6-8BC2-4243-9FE8-B201A682D3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90D2-7831-4310-B8FC-D5914A489522}" type="slidenum">
              <a:rPr b="0" lang="en-US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4282-57F8-47AC-91BF-273E2B9499DB}" type="slidenum">
              <a:rPr b="0" lang="en-US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20520" y="20520"/>
            <a:ext cx="3498840" cy="2184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3503520" y="20520"/>
            <a:ext cx="5624640" cy="2184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7667640" y="2276640"/>
            <a:ext cx="1460520" cy="29527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8"/>
          <p:cNvSpPr/>
          <p:nvPr/>
        </p:nvSpPr>
        <p:spPr>
          <a:xfrm>
            <a:off x="2608200" y="3639960"/>
            <a:ext cx="4411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8400" y="2610000"/>
            <a:ext cx="721044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оставление мер социальной поддержки и социальных услуг детям-инвалидам, семьям, воспитывающим детей-инвалидов, и инвалидам в Ханты-Мансийском автономном округе – Югре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260" name="Рисунок 3" descr=""/>
          <p:cNvPicPr/>
          <p:nvPr/>
        </p:nvPicPr>
        <p:blipFill>
          <a:blip r:embed="rId4"/>
          <a:srcRect l="1171" t="0" r="0" b="-7318"/>
          <a:stretch/>
        </p:blipFill>
        <p:spPr>
          <a:xfrm>
            <a:off x="73080" y="5369040"/>
            <a:ext cx="8986680" cy="1484280"/>
          </a:xfrm>
          <a:prstGeom prst="rect">
            <a:avLst/>
          </a:prstGeom>
          <a:ln w="0">
            <a:noFill/>
          </a:ln>
        </p:spPr>
      </p:pic>
      <p:sp>
        <p:nvSpPr>
          <p:cNvPr id="261" name="Text Placeholder 2"/>
          <p:cNvSpPr/>
          <p:nvPr/>
        </p:nvSpPr>
        <p:spPr>
          <a:xfrm>
            <a:off x="2498760" y="6310440"/>
            <a:ext cx="3952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г. Ханты-Мансийск, 26 сентября 2017 года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Text Placeholder 2"/>
          <p:cNvSpPr/>
          <p:nvPr/>
        </p:nvSpPr>
        <p:spPr>
          <a:xfrm>
            <a:off x="3936960" y="5732640"/>
            <a:ext cx="5122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иректор Депсоцразвития Югры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авиденко Светлана Алексеевна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7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7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75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75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7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7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B473-6EB5-4D24-881C-C20B4327CC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6" name="Диаграмма 15" descr=""/>
          <p:cNvPicPr/>
          <p:nvPr/>
        </p:nvPicPr>
        <p:blipFill>
          <a:blip r:embed="rId1"/>
          <a:stretch/>
        </p:blipFill>
        <p:spPr>
          <a:xfrm>
            <a:off x="176040" y="1054080"/>
            <a:ext cx="4608720" cy="41036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е обслуживание инвалидов, детей-инвалидов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Овал 1"/>
          <p:cNvSpPr/>
          <p:nvPr/>
        </p:nvSpPr>
        <p:spPr>
          <a:xfrm>
            <a:off x="3780000" y="1773360"/>
            <a:ext cx="1439640" cy="12952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54,6% </a:t>
            </a:r>
            <a:br>
              <a:rPr sz="1200"/>
            </a:b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от общей численности инвалидов </a:t>
            </a:r>
            <a:br>
              <a:rPr sz="1200"/>
            </a:b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в Югре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Прямая соединительная линия 5"/>
          <p:cNvSpPr/>
          <p:nvPr/>
        </p:nvSpPr>
        <p:spPr>
          <a:xfrm flipH="1">
            <a:off x="3635280" y="1962000"/>
            <a:ext cx="355680" cy="33480"/>
          </a:xfrm>
          <a:prstGeom prst="line">
            <a:avLst/>
          </a:prstGeom>
          <a:ln w="9360">
            <a:solidFill>
              <a:srgbClr val="f48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Прямая соединительная линия 8"/>
          <p:cNvSpPr/>
          <p:nvPr/>
        </p:nvSpPr>
        <p:spPr>
          <a:xfrm flipH="1">
            <a:off x="3276720" y="1995480"/>
            <a:ext cx="358560" cy="353880"/>
          </a:xfrm>
          <a:prstGeom prst="line">
            <a:avLst/>
          </a:prstGeom>
          <a:ln w="9360">
            <a:solidFill>
              <a:srgbClr val="f48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Прямоугольник с двумя скругленными соседними углами 36"/>
          <p:cNvSpPr/>
          <p:nvPr/>
        </p:nvSpPr>
        <p:spPr>
          <a:xfrm>
            <a:off x="5651640" y="1197000"/>
            <a:ext cx="3024000" cy="3375000"/>
          </a:xfrm>
          <a:prstGeom prst="pie">
            <a:avLst/>
          </a:prstGeom>
          <a:solidFill>
            <a:srgbClr val="ffffff"/>
          </a:solidFill>
          <a:ln w="9360">
            <a:solidFill>
              <a:srgbClr val="3e6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На предоставление услуг 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социального обслуживания 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в 2017 году предполагается израсходовать 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1 995 850,4 тыс. рублей, 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в том числе 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в реабилитационных центрах 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для детей и подростков 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с ограниченными возможностями –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682 200,2 тыс. рублей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4480" y="11556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ционарозамещающие технологии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E1F1-80C8-4E79-A3F6-0C5CE2380B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434" name="Группа 26"/>
          <p:cNvGrpSpPr/>
          <p:nvPr/>
        </p:nvGrpSpPr>
        <p:grpSpPr>
          <a:xfrm>
            <a:off x="6084720" y="1212840"/>
            <a:ext cx="2984760" cy="4189320"/>
            <a:chOff x="6084720" y="1212840"/>
            <a:chExt cx="2984760" cy="4189320"/>
          </a:xfrm>
        </p:grpSpPr>
        <p:sp>
          <p:nvSpPr>
            <p:cNvPr id="435" name="Прямоугольник с двумя скругленными соседними углами 31"/>
            <p:cNvSpPr/>
            <p:nvPr/>
          </p:nvSpPr>
          <p:spPr>
            <a:xfrm>
              <a:off x="6139440" y="1212840"/>
              <a:ext cx="2679480" cy="235656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7bcf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Мультидисциплинарные бригады по оказанию комплексной медико-психолого-социальной помощи</a:t>
              </a:r>
              <a:endParaRPr b="0" lang="en-US" sz="17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436" name="Прямоугольник 32"/>
            <p:cNvGrpSpPr/>
            <p:nvPr/>
          </p:nvGrpSpPr>
          <p:grpSpPr>
            <a:xfrm>
              <a:off x="6084720" y="3511800"/>
              <a:ext cx="2793600" cy="1115640"/>
              <a:chOff x="6084720" y="3511800"/>
              <a:chExt cx="2793600" cy="1115640"/>
            </a:xfrm>
          </p:grpSpPr>
          <p:pic>
            <p:nvPicPr>
              <p:cNvPr id="437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6084720" y="3511800"/>
                <a:ext cx="2793600" cy="11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6139440" y="3569040"/>
                <a:ext cx="2684880" cy="8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услуги предоставлены: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в 2016 году – 360 инвалидам,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в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I </a:t>
                </a: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полугодии 2017 года –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406 инвалидам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pic>
          <p:nvPicPr>
            <p:cNvPr id="439" name="Picture 7" descr=""/>
            <p:cNvPicPr/>
            <p:nvPr/>
          </p:nvPicPr>
          <p:blipFill>
            <a:blip r:embed="rId2"/>
            <a:stretch/>
          </p:blipFill>
          <p:spPr>
            <a:xfrm>
              <a:off x="7837200" y="4280400"/>
              <a:ext cx="1232280" cy="112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Группа 25"/>
          <p:cNvGrpSpPr/>
          <p:nvPr/>
        </p:nvGrpSpPr>
        <p:grpSpPr>
          <a:xfrm>
            <a:off x="3411360" y="1197000"/>
            <a:ext cx="2532240" cy="4292640"/>
            <a:chOff x="3411360" y="1197000"/>
            <a:chExt cx="2532240" cy="4292640"/>
          </a:xfrm>
        </p:grpSpPr>
        <p:sp>
          <p:nvSpPr>
            <p:cNvPr id="441" name="Прямоугольник с двумя скругленными соседними углами 29"/>
            <p:cNvSpPr/>
            <p:nvPr/>
          </p:nvSpPr>
          <p:spPr>
            <a:xfrm>
              <a:off x="3462840" y="1197000"/>
              <a:ext cx="2211840" cy="237024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7bcf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Сертификаты </a:t>
              </a:r>
              <a:br>
                <a:rPr sz="1700"/>
              </a:b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на оплату услуг </a:t>
              </a:r>
              <a:br>
                <a:rPr sz="1700"/>
              </a:b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по уходу </a:t>
              </a:r>
              <a:br>
                <a:rPr sz="1700"/>
              </a:b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за одинокими тяжелобольными</a:t>
              </a:r>
              <a:endParaRPr b="0" lang="en-US" sz="17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442" name="Прямоугольник 30"/>
            <p:cNvGrpSpPr/>
            <p:nvPr/>
          </p:nvGrpSpPr>
          <p:grpSpPr>
            <a:xfrm>
              <a:off x="3411360" y="3534120"/>
              <a:ext cx="2317320" cy="1005120"/>
              <a:chOff x="3411360" y="3534120"/>
              <a:chExt cx="2317320" cy="1005120"/>
            </a:xfrm>
          </p:grpSpPr>
          <p:pic>
            <p:nvPicPr>
              <p:cNvPr id="443" name="Прямоугольник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1360" y="3534120"/>
                <a:ext cx="2317320" cy="10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3462840" y="3567240"/>
                <a:ext cx="2212560" cy="89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услуги по уходу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получают 13 человек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pic>
          <p:nvPicPr>
            <p:cNvPr id="445" name="Picture 3" descr=""/>
            <p:cNvPicPr/>
            <p:nvPr/>
          </p:nvPicPr>
          <p:blipFill>
            <a:blip r:embed="rId4"/>
            <a:stretch/>
          </p:blipFill>
          <p:spPr>
            <a:xfrm>
              <a:off x="4743360" y="4277520"/>
              <a:ext cx="1200240" cy="12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Группа 24"/>
          <p:cNvGrpSpPr/>
          <p:nvPr/>
        </p:nvGrpSpPr>
        <p:grpSpPr>
          <a:xfrm>
            <a:off x="250920" y="1212840"/>
            <a:ext cx="2935080" cy="4232160"/>
            <a:chOff x="250920" y="1212840"/>
            <a:chExt cx="2935080" cy="4232160"/>
          </a:xfrm>
        </p:grpSpPr>
        <p:sp>
          <p:nvSpPr>
            <p:cNvPr id="447" name="Прямоугольник с двумя скругленными соседними углами 5"/>
            <p:cNvSpPr/>
            <p:nvPr/>
          </p:nvSpPr>
          <p:spPr>
            <a:xfrm>
              <a:off x="305280" y="1212840"/>
              <a:ext cx="2683800" cy="235656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7bcf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Приемная семья </a:t>
              </a:r>
              <a:br>
                <a:rPr sz="1700"/>
              </a:b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для пожилого гражданина</a:t>
              </a:r>
              <a:endParaRPr b="0" lang="en-US" sz="17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448" name="Прямоугольник 6"/>
            <p:cNvGrpSpPr/>
            <p:nvPr/>
          </p:nvGrpSpPr>
          <p:grpSpPr>
            <a:xfrm>
              <a:off x="250920" y="3536280"/>
              <a:ext cx="2791800" cy="1006200"/>
              <a:chOff x="250920" y="3536280"/>
              <a:chExt cx="2791800" cy="1006200"/>
            </a:xfrm>
          </p:grpSpPr>
          <p:pic>
            <p:nvPicPr>
              <p:cNvPr id="449" name="Прямоугольник 6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3536280"/>
                <a:ext cx="2791800" cy="10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305280" y="3569040"/>
                <a:ext cx="2684520" cy="8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участвуют 72 инвалида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пожилого возраста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pic>
          <p:nvPicPr>
            <p:cNvPr id="451" name="Picture 2" descr=""/>
            <p:cNvPicPr/>
            <p:nvPr/>
          </p:nvPicPr>
          <p:blipFill>
            <a:blip r:embed="rId6"/>
            <a:stretch/>
          </p:blipFill>
          <p:spPr>
            <a:xfrm>
              <a:off x="2002320" y="4237560"/>
              <a:ext cx="1183680" cy="1207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3160" y="333360"/>
            <a:ext cx="87645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ация мероприятий социальной реабилитац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ой программы реабилитации или абилитации инвалида (ребенка-инвалида) в системе социального обслуживания автономного округа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24000" y="2997360"/>
            <a:ext cx="8496000" cy="16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611280" y="3716280"/>
            <a:ext cx="7921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eeece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455" name="Группа 29"/>
          <p:cNvGrpSpPr/>
          <p:nvPr/>
        </p:nvGrpSpPr>
        <p:grpSpPr>
          <a:xfrm>
            <a:off x="173160" y="1243080"/>
            <a:ext cx="8751960" cy="5162400"/>
            <a:chOff x="173160" y="1243080"/>
            <a:chExt cx="8751960" cy="5162400"/>
          </a:xfrm>
        </p:grpSpPr>
        <p:sp>
          <p:nvSpPr>
            <p:cNvPr id="456" name="Скругленный прямоугольник 9"/>
            <p:cNvSpPr/>
            <p:nvPr/>
          </p:nvSpPr>
          <p:spPr>
            <a:xfrm>
              <a:off x="173160" y="1879560"/>
              <a:ext cx="8070840" cy="314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7e4bd"/>
                </a:gs>
                <a:gs pos="100000">
                  <a:srgbClr val="e7ffe7"/>
                </a:gs>
              </a:gsLst>
              <a:lin ang="5400000"/>
            </a:gradFill>
            <a:ln w="6480">
              <a:solidFill>
                <a:srgbClr val="caee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Направление выписки из ИПРА по защищенному каналу связи в Депсоцразвития Югры 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57" name="Скругленный прямоугольник 10"/>
            <p:cNvSpPr/>
            <p:nvPr/>
          </p:nvSpPr>
          <p:spPr>
            <a:xfrm>
              <a:off x="173160" y="3933720"/>
              <a:ext cx="8070840" cy="390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7e4bd"/>
                </a:gs>
                <a:gs pos="100000">
                  <a:srgbClr val="e7ffe7"/>
                </a:gs>
              </a:gsLst>
              <a:lin ang="5400000"/>
            </a:gradFill>
            <a:ln w="6480">
              <a:solidFill>
                <a:srgbClr val="caee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Уведомление инвалида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о возможности получения услуг по месту жительства инвалида (ребенка-инвалида)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58" name="Скругленный прямоугольник 11"/>
            <p:cNvSpPr/>
            <p:nvPr/>
          </p:nvSpPr>
          <p:spPr>
            <a:xfrm>
              <a:off x="173160" y="1243080"/>
              <a:ext cx="8646840" cy="404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4fbff"/>
                </a:gs>
              </a:gsLst>
              <a:lin ang="5400000"/>
            </a:gradFill>
            <a:ln w="6480">
              <a:solidFill>
                <a:srgbClr val="c9f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Филиал бюро медико-социальной экспертизы по месту жительства 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(разработка ИПРА инвалида (ребенка-инвалида)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59" name="Скругленный прямоугольник 12"/>
            <p:cNvSpPr/>
            <p:nvPr/>
          </p:nvSpPr>
          <p:spPr>
            <a:xfrm>
              <a:off x="173160" y="2422440"/>
              <a:ext cx="8070840" cy="80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4fbff"/>
                </a:gs>
              </a:gsLst>
              <a:lin ang="5400000"/>
            </a:gradFill>
            <a:ln w="6480">
              <a:solidFill>
                <a:srgbClr val="c9f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Реабилитационный центр для детей и подростков с ограниченными возможностями «Таукси»,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комплексный центр социального обслуживания населения «Диалог»: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1) внесение сведений из ИПРА в РППСУ;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2) определение исполнителей и сроков реабилитационных (абилитационных) мероприятий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60" name="Скругленный прямоугольник 13"/>
            <p:cNvSpPr/>
            <p:nvPr/>
          </p:nvSpPr>
          <p:spPr>
            <a:xfrm>
              <a:off x="173160" y="5145120"/>
              <a:ext cx="8070840" cy="3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4fbff"/>
                </a:gs>
              </a:gsLst>
              <a:lin ang="5400000"/>
            </a:gradFill>
            <a:ln w="6480">
              <a:solidFill>
                <a:srgbClr val="c9f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олучение инвалидом (ребенком-инвалидом) услуг по реабилитации (абилитации)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 организациях социального обслуживания, обеспечение ТСР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61" name="Скругленный прямоугольник 14"/>
            <p:cNvSpPr/>
            <p:nvPr/>
          </p:nvSpPr>
          <p:spPr>
            <a:xfrm>
              <a:off x="173160" y="5794560"/>
              <a:ext cx="8070840" cy="610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7e4bd"/>
                </a:gs>
                <a:gs pos="100000">
                  <a:srgbClr val="e7ffe7"/>
                </a:gs>
              </a:gsLst>
              <a:lin ang="5400000"/>
            </a:gradFill>
            <a:ln w="6480">
              <a:solidFill>
                <a:srgbClr val="caee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Депсоцразвития Югры – направление сведений о выполнений мероприятий,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едусмотренных ИПРА в бюро МСЭ не позднее  1 месяца до окончания срока действия ИПРА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для оценки результатов проведения мероприятий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462" name="Стрелка вниз 15"/>
            <p:cNvGrpSpPr/>
            <p:nvPr/>
          </p:nvGrpSpPr>
          <p:grpSpPr>
            <a:xfrm>
              <a:off x="3620880" y="1615320"/>
              <a:ext cx="633960" cy="341280"/>
              <a:chOff x="3620880" y="1615320"/>
              <a:chExt cx="633960" cy="341280"/>
            </a:xfrm>
          </p:grpSpPr>
          <p:pic>
            <p:nvPicPr>
              <p:cNvPr id="463" name="Стрелка вниз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3620880" y="1615320"/>
                <a:ext cx="633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3807000" y="1647720"/>
                <a:ext cx="25992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sp>
          <p:nvSpPr>
            <p:cNvPr id="465" name="Стрелка вниз 16"/>
            <p:cNvSpPr/>
            <p:nvPr/>
          </p:nvSpPr>
          <p:spPr>
            <a:xfrm>
              <a:off x="3676680" y="2189160"/>
              <a:ext cx="520560" cy="212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466" name="Стрелка вниз 17"/>
            <p:cNvGrpSpPr/>
            <p:nvPr/>
          </p:nvGrpSpPr>
          <p:grpSpPr>
            <a:xfrm>
              <a:off x="3633120" y="3194280"/>
              <a:ext cx="627840" cy="329040"/>
              <a:chOff x="3633120" y="3194280"/>
              <a:chExt cx="627840" cy="329040"/>
            </a:xfrm>
          </p:grpSpPr>
          <p:pic>
            <p:nvPicPr>
              <p:cNvPr id="467" name="Стрелка вниз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3120" y="3194280"/>
                <a:ext cx="62784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3818160" y="3227040"/>
                <a:ext cx="25992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sp>
          <p:nvSpPr>
            <p:cNvPr id="469" name="Стрелка вниз 18"/>
            <p:cNvSpPr/>
            <p:nvPr/>
          </p:nvSpPr>
          <p:spPr>
            <a:xfrm>
              <a:off x="3692520" y="3718080"/>
              <a:ext cx="520560" cy="20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f0ea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0" name="Скругленный прямоугольник 20"/>
            <p:cNvSpPr/>
            <p:nvPr/>
          </p:nvSpPr>
          <p:spPr>
            <a:xfrm>
              <a:off x="173160" y="4548240"/>
              <a:ext cx="3895560" cy="30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4fbff"/>
                </a:gs>
              </a:gsLst>
              <a:lin ang="5400000"/>
            </a:gradFill>
            <a:ln w="6480">
              <a:solidFill>
                <a:srgbClr val="c9f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несение сведений в ППО АСОИ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1" name="Скругленный прямоугольник 21"/>
            <p:cNvSpPr/>
            <p:nvPr/>
          </p:nvSpPr>
          <p:spPr>
            <a:xfrm>
              <a:off x="4213080" y="4548240"/>
              <a:ext cx="4030560" cy="30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4fbff"/>
                </a:gs>
              </a:gsLst>
              <a:lin ang="5400000"/>
            </a:gradFill>
            <a:ln w="6480">
              <a:solidFill>
                <a:srgbClr val="c9f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несение сведений в РППСУ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2" name="Стрелка вниз 22"/>
            <p:cNvSpPr/>
            <p:nvPr/>
          </p:nvSpPr>
          <p:spPr>
            <a:xfrm>
              <a:off x="3935520" y="5551560"/>
              <a:ext cx="520560" cy="242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92d05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3" name="Скругленный прямоугольник 23"/>
            <p:cNvSpPr/>
            <p:nvPr/>
          </p:nvSpPr>
          <p:spPr>
            <a:xfrm>
              <a:off x="173160" y="3459240"/>
              <a:ext cx="8070840" cy="2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7e4bd"/>
                </a:gs>
                <a:gs pos="100000">
                  <a:srgbClr val="e7ffe7"/>
                </a:gs>
              </a:gsLst>
              <a:lin ang="5400000"/>
            </a:gradFill>
            <a:ln w="6480">
              <a:solidFill>
                <a:srgbClr val="caee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УСЗН (определение нуждаемости в социальных услугах и ТСР)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4" name="Стрелка вниз 24"/>
            <p:cNvSpPr/>
            <p:nvPr/>
          </p:nvSpPr>
          <p:spPr>
            <a:xfrm>
              <a:off x="1895400" y="4317840"/>
              <a:ext cx="520560" cy="191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f0ea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5" name="Стрелка вниз 25"/>
            <p:cNvSpPr/>
            <p:nvPr/>
          </p:nvSpPr>
          <p:spPr>
            <a:xfrm>
              <a:off x="1854000" y="4870440"/>
              <a:ext cx="533160" cy="257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92d05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6" name="Стрелка вниз 26"/>
            <p:cNvSpPr/>
            <p:nvPr/>
          </p:nvSpPr>
          <p:spPr>
            <a:xfrm>
              <a:off x="6016680" y="4870440"/>
              <a:ext cx="533160" cy="257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92d05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7" name="Стрелка вниз 27"/>
            <p:cNvSpPr/>
            <p:nvPr/>
          </p:nvSpPr>
          <p:spPr>
            <a:xfrm>
              <a:off x="5978520" y="4317840"/>
              <a:ext cx="520560" cy="191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f0ea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8" name="Freeform 9"/>
            <p:cNvSpPr/>
            <p:nvPr/>
          </p:nvSpPr>
          <p:spPr>
            <a:xfrm flipH="1" rot="16033200">
              <a:off x="6320880" y="3641760"/>
              <a:ext cx="4382640" cy="613080"/>
            </a:xfrm>
            <a:custGeom>
              <a:avLst/>
              <a:gdLst/>
              <a:ahLst/>
              <a:rect l="l" t="t" r="r" b="b"/>
              <a:pathLst>
                <a:path w="10008" h="11156">
                  <a:moveTo>
                    <a:pt x="10000" y="1156"/>
                  </a:moveTo>
                  <a:cubicBezTo>
                    <a:pt x="9985" y="1550"/>
                    <a:pt x="9917" y="1748"/>
                    <a:pt x="9903" y="2143"/>
                  </a:cubicBezTo>
                  <a:cubicBezTo>
                    <a:pt x="9826" y="2511"/>
                    <a:pt x="9801" y="2861"/>
                    <a:pt x="9724" y="3229"/>
                  </a:cubicBezTo>
                  <a:cubicBezTo>
                    <a:pt x="9602" y="3571"/>
                    <a:pt x="9480" y="4125"/>
                    <a:pt x="9358" y="4467"/>
                  </a:cubicBezTo>
                  <a:lnTo>
                    <a:pt x="8762" y="5413"/>
                  </a:lnTo>
                  <a:lnTo>
                    <a:pt x="8028" y="6280"/>
                  </a:lnTo>
                  <a:lnTo>
                    <a:pt x="7066" y="7068"/>
                  </a:lnTo>
                  <a:lnTo>
                    <a:pt x="5919" y="7830"/>
                  </a:lnTo>
                  <a:lnTo>
                    <a:pt x="4545" y="8514"/>
                  </a:lnTo>
                  <a:lnTo>
                    <a:pt x="2893" y="9170"/>
                  </a:lnTo>
                  <a:lnTo>
                    <a:pt x="681" y="9828"/>
                  </a:lnTo>
                  <a:cubicBezTo>
                    <a:pt x="605" y="10508"/>
                    <a:pt x="773" y="10476"/>
                    <a:pt x="697" y="11156"/>
                  </a:cubicBezTo>
                  <a:lnTo>
                    <a:pt x="0" y="7909"/>
                  </a:lnTo>
                  <a:lnTo>
                    <a:pt x="627" y="4981"/>
                  </a:lnTo>
                  <a:cubicBezTo>
                    <a:pt x="719" y="5545"/>
                    <a:pt x="533" y="5873"/>
                    <a:pt x="625" y="6437"/>
                  </a:cubicBezTo>
                  <a:lnTo>
                    <a:pt x="1826" y="6193"/>
                  </a:lnTo>
                  <a:lnTo>
                    <a:pt x="2785" y="6020"/>
                  </a:lnTo>
                  <a:lnTo>
                    <a:pt x="3706" y="5772"/>
                  </a:lnTo>
                  <a:lnTo>
                    <a:pt x="4684" y="5524"/>
                  </a:lnTo>
                  <a:lnTo>
                    <a:pt x="5707" y="5125"/>
                  </a:lnTo>
                  <a:lnTo>
                    <a:pt x="6609" y="4683"/>
                  </a:lnTo>
                  <a:lnTo>
                    <a:pt x="7511" y="4090"/>
                  </a:lnTo>
                  <a:lnTo>
                    <a:pt x="8305" y="3632"/>
                  </a:lnTo>
                  <a:lnTo>
                    <a:pt x="8992" y="2982"/>
                  </a:lnTo>
                  <a:lnTo>
                    <a:pt x="9498" y="2529"/>
                  </a:lnTo>
                  <a:lnTo>
                    <a:pt x="9844" y="1901"/>
                  </a:lnTo>
                  <a:cubicBezTo>
                    <a:pt x="9875" y="1726"/>
                    <a:pt x="9977" y="175"/>
                    <a:pt x="10008" y="0"/>
                  </a:cubicBezTo>
                  <a:cubicBezTo>
                    <a:pt x="10005" y="385"/>
                    <a:pt x="10003" y="771"/>
                    <a:pt x="10000" y="115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160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4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77A4-8FB6-4E8A-80C9-8F7FA31406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зированные технологии, направленные на формирование отсутствующи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инвалидов способностей жизнедеятельности </a:t>
            </a:r>
            <a:br>
              <a:rPr sz="1800"/>
            </a:br>
            <a:r>
              <a:rPr b="0" lang="ru-RU" sz="1800" spc="-1" strike="noStrike">
                <a:solidFill>
                  <a:srgbClr val="7f7f7f"/>
                </a:solidFill>
                <a:latin typeface="Calibri"/>
              </a:rPr>
              <a:t>(абилитация инвалидов в условиях круглосуточного проживания)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1D2D-9F84-47E1-8424-C1D3852D66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482" name="Группа 11"/>
          <p:cNvGrpSpPr/>
          <p:nvPr/>
        </p:nvGrpSpPr>
        <p:grpSpPr>
          <a:xfrm>
            <a:off x="6012000" y="1268280"/>
            <a:ext cx="3132000" cy="4503960"/>
            <a:chOff x="6012000" y="1268280"/>
            <a:chExt cx="3132000" cy="4503960"/>
          </a:xfrm>
        </p:grpSpPr>
        <p:sp>
          <p:nvSpPr>
            <p:cNvPr id="483" name="Прямоугольник с двумя скругленными соседними углами 25"/>
            <p:cNvSpPr/>
            <p:nvPr/>
          </p:nvSpPr>
          <p:spPr>
            <a:xfrm>
              <a:off x="6067080" y="1268280"/>
              <a:ext cx="2900880" cy="244764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8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Реабилитация </a:t>
              </a:r>
              <a:endParaRPr b="0" lang="en-US" sz="1700" spc="-1" strike="noStrike">
                <a:solidFill>
                  <a:srgbClr val="2626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инвалидов по слуху, </a:t>
              </a:r>
              <a:endParaRPr b="0" lang="en-US" sz="1700" spc="-1" strike="noStrike">
                <a:solidFill>
                  <a:srgbClr val="2626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лиц с ограниченными слуховыми возможностями </a:t>
              </a:r>
              <a:endParaRPr b="0" lang="en-US" sz="1700" spc="-1" strike="noStrike">
                <a:solidFill>
                  <a:srgbClr val="2626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(г. Нижневартовск)</a:t>
              </a:r>
              <a:endParaRPr b="0" lang="en-US" sz="1700" spc="-1" strike="noStrike">
                <a:solidFill>
                  <a:srgbClr val="2626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(обучение пользованию ТСР, психокоррекция, исправление речевых недостатков, адаптационное обучение навыкам проведения досуга и социального общения)</a:t>
              </a:r>
              <a:endParaRPr b="0" lang="en-US" sz="13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484" name="Прямоугольник 26"/>
            <p:cNvGrpSpPr/>
            <p:nvPr/>
          </p:nvGrpSpPr>
          <p:grpSpPr>
            <a:xfrm>
              <a:off x="6012000" y="3687840"/>
              <a:ext cx="3012480" cy="1194480"/>
              <a:chOff x="6012000" y="3687840"/>
              <a:chExt cx="3012480" cy="1194480"/>
            </a:xfrm>
          </p:grpSpPr>
          <p:pic>
            <p:nvPicPr>
              <p:cNvPr id="485" name="Прямоугольник 26" descr=""/>
              <p:cNvPicPr/>
              <p:nvPr/>
            </p:nvPicPr>
            <p:blipFill>
              <a:blip r:embed="rId1"/>
              <a:stretch/>
            </p:blipFill>
            <p:spPr>
              <a:xfrm>
                <a:off x="6012000" y="3687840"/>
                <a:ext cx="3012480" cy="119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6067080" y="3716640"/>
                <a:ext cx="2900880" cy="10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реабилитацию прошли: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2016 году – 84 человека,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</a:t>
                </a:r>
                <a:r>
                  <a:rPr b="0" lang="en-US" sz="1300" spc="-1" strike="noStrike">
                    <a:solidFill>
                      <a:srgbClr val="ffffff"/>
                    </a:solidFill>
                    <a:latin typeface="Calibri"/>
                  </a:rPr>
                  <a:t>I </a:t>
                </a: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полугодии 2017 года –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42 человека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pic>
          <p:nvPicPr>
            <p:cNvPr id="487" name="Picture 7" descr=""/>
            <p:cNvPicPr/>
            <p:nvPr/>
          </p:nvPicPr>
          <p:blipFill>
            <a:blip r:embed="rId2"/>
            <a:stretch/>
          </p:blipFill>
          <p:spPr>
            <a:xfrm>
              <a:off x="7862400" y="4650840"/>
              <a:ext cx="1281600" cy="112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Группа 9"/>
          <p:cNvGrpSpPr/>
          <p:nvPr/>
        </p:nvGrpSpPr>
        <p:grpSpPr>
          <a:xfrm>
            <a:off x="3182760" y="1268280"/>
            <a:ext cx="2829240" cy="4503960"/>
            <a:chOff x="3182760" y="1268280"/>
            <a:chExt cx="2829240" cy="4503960"/>
          </a:xfrm>
        </p:grpSpPr>
        <p:sp>
          <p:nvSpPr>
            <p:cNvPr id="489" name="Прямоугольник с двумя скругленными соседними углами 33"/>
            <p:cNvSpPr/>
            <p:nvPr/>
          </p:nvSpPr>
          <p:spPr>
            <a:xfrm>
              <a:off x="3246120" y="1268280"/>
              <a:ext cx="2567880" cy="244764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8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Реабилитация инвалидов по зрению </a:t>
              </a:r>
              <a:br>
                <a:rPr sz="1700"/>
              </a:b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(г. Сургут)</a:t>
              </a:r>
              <a:endParaRPr b="0" lang="en-US" sz="1700" spc="-1" strike="noStrike">
                <a:solidFill>
                  <a:srgbClr val="2626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(обучение пользованию ТСР, пространственному ориентированию, чтению и письму рельефно-точечным шрифтом по системе Брайля, пользованию персональным компьютером, привития навыков самообслуживания)</a:t>
              </a:r>
              <a:endParaRPr b="0" lang="en-US" sz="13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490" name="Прямоугольник 34"/>
            <p:cNvGrpSpPr/>
            <p:nvPr/>
          </p:nvGrpSpPr>
          <p:grpSpPr>
            <a:xfrm>
              <a:off x="3182760" y="3681720"/>
              <a:ext cx="2686320" cy="1206720"/>
              <a:chOff x="3182760" y="3681720"/>
              <a:chExt cx="2686320" cy="1206720"/>
            </a:xfrm>
          </p:grpSpPr>
          <p:pic>
            <p:nvPicPr>
              <p:cNvPr id="491" name="Прямоугольник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3182760" y="3681720"/>
                <a:ext cx="26863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3243240" y="3716640"/>
                <a:ext cx="2567160" cy="10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реабилитацию прошли: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2016 году –  47 инвалидов,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</a:t>
                </a:r>
                <a:r>
                  <a:rPr b="0" lang="en-US" sz="1300" spc="-1" strike="noStrike">
                    <a:solidFill>
                      <a:srgbClr val="ffffff"/>
                    </a:solidFill>
                    <a:latin typeface="Calibri"/>
                  </a:rPr>
                  <a:t>I </a:t>
                </a: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полугодии 2017 года –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30 инвалидов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pic>
          <p:nvPicPr>
            <p:cNvPr id="493" name="Picture 3" descr=""/>
            <p:cNvPicPr/>
            <p:nvPr/>
          </p:nvPicPr>
          <p:blipFill>
            <a:blip r:embed="rId4"/>
            <a:stretch/>
          </p:blipFill>
          <p:spPr>
            <a:xfrm>
              <a:off x="4812120" y="4650840"/>
              <a:ext cx="1199880" cy="112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4" name="Группа 8"/>
          <p:cNvGrpSpPr/>
          <p:nvPr/>
        </p:nvGrpSpPr>
        <p:grpSpPr>
          <a:xfrm>
            <a:off x="179280" y="1247760"/>
            <a:ext cx="3083040" cy="4524480"/>
            <a:chOff x="179280" y="1247760"/>
            <a:chExt cx="3083040" cy="4524480"/>
          </a:xfrm>
        </p:grpSpPr>
        <p:sp>
          <p:nvSpPr>
            <p:cNvPr id="495" name="Прямоугольник с двумя скругленными соседними углами 37"/>
            <p:cNvSpPr/>
            <p:nvPr/>
          </p:nvSpPr>
          <p:spPr>
            <a:xfrm>
              <a:off x="235440" y="1247760"/>
              <a:ext cx="2757960" cy="24490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8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Реабилитация инвалидов </a:t>
              </a:r>
              <a:br>
                <a:rPr sz="1700"/>
              </a:br>
              <a:r>
                <a:rPr b="0" lang="ru-RU" sz="1700" spc="-1" strike="noStrike">
                  <a:solidFill>
                    <a:srgbClr val="262626"/>
                  </a:solidFill>
                  <a:latin typeface="Calibri"/>
                </a:rPr>
                <a:t>с нарушением функций опорно-двигательного аппарата, включая программу обучения ходьбе на протезах инвалидов после ампутации (г. Сургут)</a:t>
              </a:r>
              <a:endParaRPr b="0" lang="en-US" sz="17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496" name="Прямоугольник 38"/>
            <p:cNvGrpSpPr/>
            <p:nvPr/>
          </p:nvGrpSpPr>
          <p:grpSpPr>
            <a:xfrm>
              <a:off x="179280" y="3596400"/>
              <a:ext cx="2867760" cy="1444320"/>
              <a:chOff x="179280" y="3596400"/>
              <a:chExt cx="2867760" cy="1444320"/>
            </a:xfrm>
          </p:grpSpPr>
          <p:pic>
            <p:nvPicPr>
              <p:cNvPr id="497" name="Прямоугольник 38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280" y="3596400"/>
                <a:ext cx="286776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"/>
              <p:cNvSpPr/>
              <p:nvPr/>
            </p:nvSpPr>
            <p:spPr>
              <a:xfrm>
                <a:off x="235440" y="3696480"/>
                <a:ext cx="2758680" cy="11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реабилитацию прошли: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2016 году – 52 инвалида, 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из них «встали на ноги» – 69,2%,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</a:t>
                </a:r>
                <a:r>
                  <a:rPr b="0" lang="en-US" sz="1300" spc="-1" strike="noStrike">
                    <a:solidFill>
                      <a:srgbClr val="ffffff"/>
                    </a:solidFill>
                    <a:latin typeface="Calibri"/>
                  </a:rPr>
                  <a:t>I </a:t>
                </a: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полугодии 2017 года –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19 инвалидов, из них «встали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на ноги» – 84%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pic>
          <p:nvPicPr>
            <p:cNvPr id="499" name="Picture 2" descr=""/>
            <p:cNvPicPr/>
            <p:nvPr/>
          </p:nvPicPr>
          <p:blipFill>
            <a:blip r:embed="rId6"/>
            <a:stretch/>
          </p:blipFill>
          <p:spPr>
            <a:xfrm>
              <a:off x="2059200" y="4650840"/>
              <a:ext cx="1203120" cy="1121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и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го обслуживания детей-инвалидов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8C3C-0858-42E0-916F-97545F4D99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502" name="Группа 4"/>
          <p:cNvGrpSpPr/>
          <p:nvPr/>
        </p:nvGrpSpPr>
        <p:grpSpPr>
          <a:xfrm>
            <a:off x="-2114640" y="1106640"/>
            <a:ext cx="11165040" cy="4789440"/>
            <a:chOff x="-2114640" y="1106640"/>
            <a:chExt cx="11165040" cy="4789440"/>
          </a:xfrm>
        </p:grpSpPr>
        <p:sp>
          <p:nvSpPr>
            <p:cNvPr id="503" name="AutoShape 91"/>
            <p:cNvSpPr/>
            <p:nvPr/>
          </p:nvSpPr>
          <p:spPr>
            <a:xfrm rot="5400000">
              <a:off x="-2293920" y="1285560"/>
              <a:ext cx="4789440" cy="4430880"/>
            </a:xfrm>
            <a:custGeom>
              <a:avLst/>
              <a:gdLst>
                <a:gd name="textAreaLeft" fmla="*/ 88920 w 4789440"/>
                <a:gd name="textAreaRight" fmla="*/ 4700520 w 4789440"/>
                <a:gd name="textAreaTop" fmla="*/ 0 h 4430880"/>
                <a:gd name="textAreaBottom" fmla="*/ 2795760 h 44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4" name="AutoShape 115"/>
            <p:cNvSpPr/>
            <p:nvPr/>
          </p:nvSpPr>
          <p:spPr>
            <a:xfrm>
              <a:off x="1042920" y="1238400"/>
              <a:ext cx="6913800" cy="452160"/>
            </a:xfrm>
            <a:prstGeom prst="roundRect">
              <a:avLst>
                <a:gd name="adj" fmla="val 3978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служба раннего вмешательства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(минимизация отклонений детей раннего возраста от 0 месяцев до 3 лет)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5" name="AutoShape 115"/>
            <p:cNvSpPr/>
            <p:nvPr/>
          </p:nvSpPr>
          <p:spPr>
            <a:xfrm>
              <a:off x="1619280" y="1846440"/>
              <a:ext cx="6624720" cy="392040"/>
            </a:xfrm>
            <a:prstGeom prst="roundRect">
              <a:avLst>
                <a:gd name="adj" fmla="val 3978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ритмика и логоритмика, методика «Лекотека»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6" name="AutoShape 115"/>
            <p:cNvSpPr/>
            <p:nvPr/>
          </p:nvSpPr>
          <p:spPr>
            <a:xfrm>
              <a:off x="1911240" y="2413080"/>
              <a:ext cx="6946920" cy="393480"/>
            </a:xfrm>
            <a:prstGeom prst="roundRect">
              <a:avLst>
                <a:gd name="adj" fmla="val 3978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развитие речи с использованием информационно-компьютерных технологий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7" name="AutoShape 115"/>
            <p:cNvSpPr/>
            <p:nvPr/>
          </p:nvSpPr>
          <p:spPr>
            <a:xfrm>
              <a:off x="2050920" y="2995560"/>
              <a:ext cx="6999480" cy="504720"/>
            </a:xfrm>
            <a:prstGeom prst="roundRect">
              <a:avLst>
                <a:gd name="adj" fmla="val 3978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диагностика развития детей раннего возраста с помощью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компьютерных программ KID, RCDI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8" name="AutoShape 115"/>
            <p:cNvSpPr/>
            <p:nvPr/>
          </p:nvSpPr>
          <p:spPr>
            <a:xfrm>
              <a:off x="2052720" y="3716640"/>
              <a:ext cx="6997680" cy="502920"/>
            </a:xfrm>
            <a:prstGeom prst="roundRect">
              <a:avLst>
                <a:gd name="adj" fmla="val 3978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социально-медицинские технологии: грудничковое плавание, Войта-терапия,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ДЭНАС-терапия, рефлекторный массаж по Д. Сандакову, ароматерапия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9" name="AutoShape 115"/>
            <p:cNvSpPr/>
            <p:nvPr/>
          </p:nvSpPr>
          <p:spPr>
            <a:xfrm>
              <a:off x="1234800" y="5100840"/>
              <a:ext cx="7297920" cy="668160"/>
            </a:xfrm>
            <a:prstGeom prst="roundRect">
              <a:avLst>
                <a:gd name="adj" fmla="val 32986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занятия по методике Марии Монтессори, игротерапии, сказкотерапии,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сенсорная интеграция с целью улучшения эмоционального, интеллектуального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потенциала ребенка и формирование его позитивных личностных качеств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10" name="AutoShape 115"/>
            <p:cNvSpPr/>
            <p:nvPr/>
          </p:nvSpPr>
          <p:spPr>
            <a:xfrm>
              <a:off x="1790640" y="4437360"/>
              <a:ext cx="7067520" cy="502920"/>
            </a:xfrm>
            <a:prstGeom prst="roundRect">
              <a:avLst>
                <a:gd name="adj" fmla="val 3978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технологии с использованием животного и растительного мира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(анималотерапия и гарденотерапия)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511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1554120"/>
              <a:ext cx="1954440" cy="3836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предоставления инвалида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сертификатов на приобретение технических средств реабилитации и оплату услуг по их ремонту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29B8-11D2-4CCE-854E-3BE5247879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Прямоугольник 13"/>
          <p:cNvSpPr/>
          <p:nvPr/>
        </p:nvSpPr>
        <p:spPr>
          <a:xfrm>
            <a:off x="326880" y="1314360"/>
            <a:ext cx="2524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Ханты-Мансийского автономного округа – Югры от 07.11.2006 N 115-оз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О мерах социальной поддержки отдельных категорий граждан в Ханты-Мансийском автономном округе – Югре»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Прямоугольник 14"/>
          <p:cNvSpPr/>
          <p:nvPr/>
        </p:nvSpPr>
        <p:spPr>
          <a:xfrm>
            <a:off x="220680" y="3213000"/>
            <a:ext cx="2689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ановле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вительства Ханты-Мансийского автономного округа – Югры от 07.04.2017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№ 123-п «О сертификатах на приобретение технических средств реабилитации и оплату услуг по их ремонту для предоставления отдельным категориям инвалидов»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516" name="Группа 1"/>
          <p:cNvGrpSpPr/>
          <p:nvPr/>
        </p:nvGrpSpPr>
        <p:grpSpPr>
          <a:xfrm>
            <a:off x="2833560" y="2463840"/>
            <a:ext cx="6283440" cy="3125880"/>
            <a:chOff x="2833560" y="2463840"/>
            <a:chExt cx="6283440" cy="3125880"/>
          </a:xfrm>
        </p:grpSpPr>
        <p:grpSp>
          <p:nvGrpSpPr>
            <p:cNvPr id="517" name="Группа 15"/>
            <p:cNvGrpSpPr/>
            <p:nvPr/>
          </p:nvGrpSpPr>
          <p:grpSpPr>
            <a:xfrm>
              <a:off x="2833560" y="2463840"/>
              <a:ext cx="6283440" cy="3125880"/>
              <a:chOff x="2833560" y="2463840"/>
              <a:chExt cx="6283440" cy="3125880"/>
            </a:xfrm>
          </p:grpSpPr>
          <p:sp>
            <p:nvSpPr>
              <p:cNvPr id="518" name="Скругленный прямоугольник 16"/>
              <p:cNvSpPr/>
              <p:nvPr/>
            </p:nvSpPr>
            <p:spPr>
              <a:xfrm>
                <a:off x="2939760" y="2466720"/>
                <a:ext cx="6177240" cy="3123000"/>
              </a:xfrm>
              <a:prstGeom prst="roundRect">
                <a:avLst>
                  <a:gd name="adj" fmla="val 5509"/>
                </a:avLst>
              </a:prstGeom>
              <a:solidFill>
                <a:srgbClr val="ffffff"/>
              </a:solidFill>
              <a:ln w="6480">
                <a:solidFill>
                  <a:srgbClr val="528b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19" name="Скругленный прямоугольник 17"/>
              <p:cNvSpPr/>
              <p:nvPr/>
            </p:nvSpPr>
            <p:spPr>
              <a:xfrm>
                <a:off x="7834320" y="3093840"/>
                <a:ext cx="1282680" cy="2330640"/>
              </a:xfrm>
              <a:custGeom>
                <a:avLst/>
                <a:gdLst>
                  <a:gd name="textAreaLeft" fmla="*/ 62280 w 1282680"/>
                  <a:gd name="textAreaRight" fmla="*/ 1220400 w 1282680"/>
                  <a:gd name="textAreaTop" fmla="*/ 62280 h 2330640"/>
                  <a:gd name="textAreaBottom" fmla="*/ 2268360 h 2330640"/>
                </a:gdLst>
                <a:ahLst/>
                <a:rect l="textAreaLeft" t="textAreaTop" r="textAreaRight" b="textAreaBottom"/>
                <a:pathLst>
                  <a:path w="21600" h="39242">
                    <a:moveTo>
                      <a:pt x="3600" y="0"/>
                    </a:moveTo>
                    <a:arcTo wR="3600" hR="3600" stAng="16200000" swAng="-5400000"/>
                    <a:lnTo>
                      <a:pt x="0" y="35642"/>
                    </a:lnTo>
                    <a:arcTo wR="3600" hR="3600" stAng="10800000" swAng="-5400000"/>
                    <a:lnTo>
                      <a:pt x="18000" y="392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pic>
            <p:nvPicPr>
              <p:cNvPr id="520" name="Picture 33" descr=""/>
              <p:cNvPicPr/>
              <p:nvPr/>
            </p:nvPicPr>
            <p:blipFill>
              <a:blip r:embed="rId1"/>
              <a:stretch/>
            </p:blipFill>
            <p:spPr>
              <a:xfrm>
                <a:off x="7899840" y="3333600"/>
                <a:ext cx="1154520" cy="117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Picture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7899840" y="4899960"/>
                <a:ext cx="1155960" cy="41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2" name="Группа 7"/>
              <p:cNvGrpSpPr/>
              <p:nvPr/>
            </p:nvGrpSpPr>
            <p:grpSpPr>
              <a:xfrm>
                <a:off x="5053320" y="4504320"/>
                <a:ext cx="1941120" cy="1085400"/>
                <a:chOff x="5053320" y="4504320"/>
                <a:chExt cx="1941120" cy="1085400"/>
              </a:xfrm>
            </p:grpSpPr>
            <p:pic>
              <p:nvPicPr>
                <p:cNvPr id="523" name="Picture 4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499000" y="4759200"/>
                  <a:ext cx="1049760" cy="83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4" name="TextBox 51"/>
                <p:cNvSpPr/>
                <p:nvPr/>
              </p:nvSpPr>
              <p:spPr>
                <a:xfrm>
                  <a:off x="5053320" y="4504320"/>
                  <a:ext cx="1941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2060"/>
                      </a:solidFill>
                      <a:latin typeface="Calibri"/>
                      <a:ea typeface="Arial"/>
                    </a:rPr>
                    <a:t>Центр социальных выплат</a:t>
                  </a:r>
                  <a:endParaRPr b="0" lang="en-US" sz="1200" spc="-1" strike="noStrike">
                    <a:solidFill>
                      <a:srgbClr val="26262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Box 53"/>
              <p:cNvSpPr/>
              <p:nvPr/>
            </p:nvSpPr>
            <p:spPr>
              <a:xfrm>
                <a:off x="6570360" y="3364560"/>
                <a:ext cx="13107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заявление 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с приложением 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документов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cxnSp>
            <p:nvCxnSpPr>
              <p:cNvPr id="526" name="Прямая со стрелкой 22"/>
              <p:cNvCxnSpPr/>
              <p:nvPr/>
            </p:nvCxnSpPr>
            <p:spPr>
              <a:xfrm>
                <a:off x="6624720" y="3990600"/>
                <a:ext cx="1210320" cy="1080"/>
              </a:xfrm>
              <a:prstGeom prst="straightConnector1">
                <a:avLst/>
              </a:prstGeom>
              <a:ln w="9360">
                <a:solidFill>
                  <a:srgbClr val="595959"/>
                </a:solidFill>
                <a:miter/>
                <a:tailEnd len="med" type="arrow" w="med"/>
              </a:ln>
            </p:spPr>
          </p:cxnSp>
          <p:sp>
            <p:nvSpPr>
              <p:cNvPr id="527" name="Овал 23"/>
              <p:cNvSpPr/>
              <p:nvPr/>
            </p:nvSpPr>
            <p:spPr>
              <a:xfrm>
                <a:off x="7140600" y="3208320"/>
                <a:ext cx="201600" cy="20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62626"/>
                    </a:solidFill>
                    <a:latin typeface="Calibri"/>
                  </a:rPr>
                  <a:t>4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28" name="TextBox 27"/>
              <p:cNvSpPr/>
              <p:nvPr/>
            </p:nvSpPr>
            <p:spPr>
              <a:xfrm>
                <a:off x="6805800" y="4290120"/>
                <a:ext cx="948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29" name="Овал 25"/>
              <p:cNvSpPr/>
              <p:nvPr/>
            </p:nvSpPr>
            <p:spPr>
              <a:xfrm>
                <a:off x="7178760" y="4187880"/>
                <a:ext cx="201600" cy="20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62626"/>
                    </a:solidFill>
                    <a:latin typeface="Calibri"/>
                  </a:rPr>
                  <a:t>5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pic>
            <p:nvPicPr>
              <p:cNvPr id="530" name="Picture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833560" y="4723560"/>
                <a:ext cx="1300680" cy="86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TextBox 5161"/>
              <p:cNvSpPr/>
              <p:nvPr/>
            </p:nvSpPr>
            <p:spPr>
              <a:xfrm>
                <a:off x="2944080" y="4442040"/>
                <a:ext cx="116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поставщик ТСР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32" name="TextBox 32"/>
              <p:cNvSpPr/>
              <p:nvPr/>
            </p:nvSpPr>
            <p:spPr>
              <a:xfrm rot="19467600">
                <a:off x="3846600" y="3826440"/>
                <a:ext cx="1543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заключение 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договора </a:t>
                </a:r>
                <a:br>
                  <a:rPr sz="1200"/>
                </a:b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с  поставщиком ТСР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pic>
            <p:nvPicPr>
              <p:cNvPr id="533" name="Picture 3" descr="C:\Users\ShashkovEV\Pictures\invalid.jpg"/>
              <p:cNvPicPr/>
              <p:nvPr/>
            </p:nvPicPr>
            <p:blipFill>
              <a:blip r:embed="rId5"/>
              <a:stretch/>
            </p:blipFill>
            <p:spPr>
              <a:xfrm>
                <a:off x="5461560" y="3299040"/>
                <a:ext cx="1385640" cy="9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TextBox 27"/>
              <p:cNvSpPr/>
              <p:nvPr/>
            </p:nvSpPr>
            <p:spPr>
              <a:xfrm>
                <a:off x="5098680" y="2908800"/>
                <a:ext cx="12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уведомление, сертификат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35" name="Овал 31"/>
              <p:cNvSpPr/>
              <p:nvPr/>
            </p:nvSpPr>
            <p:spPr>
              <a:xfrm>
                <a:off x="6137280" y="3128760"/>
                <a:ext cx="201600" cy="20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62626"/>
                    </a:solidFill>
                    <a:latin typeface="Calibri"/>
                  </a:rPr>
                  <a:t>2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36" name="TextBox 42"/>
              <p:cNvSpPr/>
              <p:nvPr/>
            </p:nvSpPr>
            <p:spPr>
              <a:xfrm>
                <a:off x="3609000" y="3233520"/>
                <a:ext cx="1137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поставка ТСР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cxnSp>
            <p:nvCxnSpPr>
              <p:cNvPr id="537" name="Прямая со стрелкой 33"/>
              <p:cNvCxnSpPr/>
              <p:nvPr/>
            </p:nvCxnSpPr>
            <p:spPr>
              <a:xfrm flipH="1">
                <a:off x="4043880" y="5424480"/>
                <a:ext cx="1454760" cy="1080"/>
              </a:xfrm>
              <a:prstGeom prst="straightConnector1">
                <a:avLst/>
              </a:prstGeom>
              <a:ln w="9360">
                <a:solidFill>
                  <a:srgbClr val="595959"/>
                </a:solidFill>
                <a:miter/>
                <a:tailEnd len="med" type="arrow" w="med"/>
              </a:ln>
            </p:spPr>
          </p:cxnSp>
          <p:sp>
            <p:nvSpPr>
              <p:cNvPr id="538" name="Овал 34"/>
              <p:cNvSpPr/>
              <p:nvPr/>
            </p:nvSpPr>
            <p:spPr>
              <a:xfrm>
                <a:off x="4705200" y="4822920"/>
                <a:ext cx="201600" cy="203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62626"/>
                    </a:solidFill>
                    <a:latin typeface="Calibri"/>
                  </a:rPr>
                  <a:t>6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cxnSp>
            <p:nvCxnSpPr>
              <p:cNvPr id="539" name="Соединительная линия уступом 35"/>
              <p:cNvCxnSpPr/>
              <p:nvPr/>
            </p:nvCxnSpPr>
            <p:spPr>
              <a:xfrm flipV="1" rot="10800000">
                <a:off x="6547680" y="4550400"/>
                <a:ext cx="1186560" cy="873720"/>
              </a:xfrm>
              <a:prstGeom prst="bentConnector3">
                <a:avLst>
                  <a:gd name="adj1" fmla="val 49984"/>
                </a:avLst>
              </a:prstGeom>
              <a:ln w="9360">
                <a:solidFill>
                  <a:srgbClr val="595959"/>
                </a:solidFill>
                <a:miter/>
                <a:tailEnd len="med" type="arrow" w="med"/>
              </a:ln>
            </p:spPr>
          </p:cxnSp>
          <p:cxnSp>
            <p:nvCxnSpPr>
              <p:cNvPr id="540" name="Соединительная линия уступом 36"/>
              <p:cNvCxnSpPr/>
              <p:nvPr/>
            </p:nvCxnSpPr>
            <p:spPr>
              <a:xfrm flipH="1" rot="10800000">
                <a:off x="3007800" y="3509280"/>
                <a:ext cx="2491560" cy="1194480"/>
              </a:xfrm>
              <a:prstGeom prst="bentConnector3">
                <a:avLst>
                  <a:gd name="adj1" fmla="val -202"/>
                </a:avLst>
              </a:prstGeom>
              <a:ln w="9360">
                <a:solidFill>
                  <a:srgbClr val="595959"/>
                </a:solidFill>
                <a:miter/>
                <a:tailEnd len="med" type="arrow" w="med"/>
              </a:ln>
            </p:spPr>
          </p:cxnSp>
          <p:sp>
            <p:nvSpPr>
              <p:cNvPr id="541" name="Овал 37"/>
              <p:cNvSpPr/>
              <p:nvPr/>
            </p:nvSpPr>
            <p:spPr>
              <a:xfrm>
                <a:off x="4235400" y="3740040"/>
                <a:ext cx="201600" cy="20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62626"/>
                    </a:solidFill>
                    <a:latin typeface="Calibri"/>
                  </a:rPr>
                  <a:t>3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42" name="Овал 38"/>
              <p:cNvSpPr/>
              <p:nvPr/>
            </p:nvSpPr>
            <p:spPr>
              <a:xfrm>
                <a:off x="4044600" y="3057480"/>
                <a:ext cx="201600" cy="203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62626"/>
                    </a:solidFill>
                    <a:latin typeface="Calibri"/>
                  </a:rPr>
                  <a:t>7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43" name="TextBox 1"/>
              <p:cNvSpPr/>
              <p:nvPr/>
            </p:nvSpPr>
            <p:spPr>
              <a:xfrm>
                <a:off x="8164440" y="3049560"/>
                <a:ext cx="523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МФЦ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44" name="TextBox 42"/>
              <p:cNvSpPr/>
              <p:nvPr/>
            </p:nvSpPr>
            <p:spPr>
              <a:xfrm>
                <a:off x="8182800" y="4607280"/>
                <a:ext cx="50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ЕПГУ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cxnSp>
            <p:nvCxnSpPr>
              <p:cNvPr id="545" name="Соединительная линия уступом 41"/>
              <p:cNvCxnSpPr/>
              <p:nvPr/>
            </p:nvCxnSpPr>
            <p:spPr>
              <a:xfrm rot="5400000">
                <a:off x="6303960" y="2564640"/>
                <a:ext cx="900720" cy="699120"/>
              </a:xfrm>
              <a:prstGeom prst="bentConnector3">
                <a:avLst>
                  <a:gd name="adj1" fmla="val 44382"/>
                </a:avLst>
              </a:prstGeom>
              <a:ln w="9360">
                <a:solidFill>
                  <a:srgbClr val="595959"/>
                </a:solidFill>
                <a:miter/>
                <a:tailEnd len="med" type="arrow" w="med"/>
              </a:ln>
            </p:spPr>
          </p:cxnSp>
          <p:sp>
            <p:nvSpPr>
              <p:cNvPr id="546" name="TextBox 7"/>
              <p:cNvSpPr/>
              <p:nvPr/>
            </p:nvSpPr>
            <p:spPr>
              <a:xfrm>
                <a:off x="4648320" y="2463840"/>
                <a:ext cx="22410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Социальное сопровождение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cxnSp>
            <p:nvCxnSpPr>
              <p:cNvPr id="547" name="Прямая со стрелкой 43"/>
              <p:cNvCxnSpPr/>
              <p:nvPr/>
            </p:nvCxnSpPr>
            <p:spPr>
              <a:xfrm flipH="1">
                <a:off x="4177440" y="3990600"/>
                <a:ext cx="1199160" cy="832680"/>
              </a:xfrm>
              <a:prstGeom prst="straightConnector1">
                <a:avLst/>
              </a:prstGeom>
              <a:ln w="9360">
                <a:solidFill>
                  <a:srgbClr val="595959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548" name="TextBox 35"/>
            <p:cNvSpPr/>
            <p:nvPr/>
          </p:nvSpPr>
          <p:spPr>
            <a:xfrm>
              <a:off x="4097520" y="4957920"/>
              <a:ext cx="1418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перечисление денежных средств</a:t>
              </a:r>
              <a:endParaRPr b="0" lang="en-US" sz="1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549" name="Группа 89"/>
          <p:cNvGrpSpPr/>
          <p:nvPr/>
        </p:nvGrpSpPr>
        <p:grpSpPr>
          <a:xfrm>
            <a:off x="4044960" y="1424160"/>
            <a:ext cx="3929400" cy="1039680"/>
            <a:chOff x="4044960" y="1424160"/>
            <a:chExt cx="3929400" cy="1039680"/>
          </a:xfrm>
        </p:grpSpPr>
        <p:grpSp>
          <p:nvGrpSpPr>
            <p:cNvPr id="550" name="Группа 6"/>
            <p:cNvGrpSpPr/>
            <p:nvPr/>
          </p:nvGrpSpPr>
          <p:grpSpPr>
            <a:xfrm>
              <a:off x="5241240" y="1716480"/>
              <a:ext cx="1393920" cy="451080"/>
              <a:chOff x="5241240" y="1716480"/>
              <a:chExt cx="1393920" cy="451080"/>
            </a:xfrm>
          </p:grpSpPr>
          <p:cxnSp>
            <p:nvCxnSpPr>
              <p:cNvPr id="551" name="Прямая со стрелкой 50"/>
              <p:cNvCxnSpPr/>
              <p:nvPr/>
            </p:nvCxnSpPr>
            <p:spPr>
              <a:xfrm>
                <a:off x="5319000" y="2166840"/>
                <a:ext cx="1251720" cy="1080"/>
              </a:xfrm>
              <a:prstGeom prst="straightConnector1">
                <a:avLst/>
              </a:prstGeom>
              <a:ln w="9360">
                <a:solidFill>
                  <a:srgbClr val="595959"/>
                </a:solidFill>
                <a:miter/>
                <a:tailEnd len="med" type="arrow" w="med"/>
              </a:ln>
            </p:spPr>
          </p:cxnSp>
          <p:sp>
            <p:nvSpPr>
              <p:cNvPr id="552" name="TextBox 19"/>
              <p:cNvSpPr/>
              <p:nvPr/>
            </p:nvSpPr>
            <p:spPr>
              <a:xfrm>
                <a:off x="5241240" y="1854360"/>
                <a:ext cx="139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Выписка из ИПРА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553" name="Овал 52"/>
              <p:cNvSpPr/>
              <p:nvPr/>
            </p:nvSpPr>
            <p:spPr>
              <a:xfrm>
                <a:off x="5819760" y="1716480"/>
                <a:ext cx="207720" cy="18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62626"/>
                    </a:solidFill>
                    <a:latin typeface="Calibri"/>
                  </a:rPr>
                  <a:t>1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554" name="Группа 4"/>
            <p:cNvGrpSpPr/>
            <p:nvPr/>
          </p:nvGrpSpPr>
          <p:grpSpPr>
            <a:xfrm>
              <a:off x="4044960" y="1424160"/>
              <a:ext cx="1196280" cy="1039680"/>
              <a:chOff x="4044960" y="1424160"/>
              <a:chExt cx="1196280" cy="1039680"/>
            </a:xfrm>
          </p:grpSpPr>
          <p:pic>
            <p:nvPicPr>
              <p:cNvPr id="555" name="Picture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4044960" y="1662480"/>
                <a:ext cx="1196280" cy="80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TextBox 1"/>
              <p:cNvSpPr/>
              <p:nvPr/>
            </p:nvSpPr>
            <p:spPr>
              <a:xfrm>
                <a:off x="4044960" y="1424160"/>
                <a:ext cx="11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Бюро МСЭ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557" name="Группа 5"/>
            <p:cNvGrpSpPr/>
            <p:nvPr/>
          </p:nvGrpSpPr>
          <p:grpSpPr>
            <a:xfrm>
              <a:off x="6282000" y="1424160"/>
              <a:ext cx="1692360" cy="991800"/>
              <a:chOff x="6282000" y="1424160"/>
              <a:chExt cx="1692360" cy="991800"/>
            </a:xfrm>
          </p:grpSpPr>
          <p:pic>
            <p:nvPicPr>
              <p:cNvPr id="558" name="Pictur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0360" y="1682640"/>
                <a:ext cx="1116000" cy="73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Box 38"/>
              <p:cNvSpPr/>
              <p:nvPr/>
            </p:nvSpPr>
            <p:spPr>
              <a:xfrm>
                <a:off x="6282000" y="1424160"/>
                <a:ext cx="169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2060"/>
                    </a:solidFill>
                    <a:latin typeface="Calibri"/>
                    <a:ea typeface="Arial"/>
                  </a:rPr>
                  <a:t>Депсоцразвития Югры</a:t>
                </a:r>
                <a:endParaRPr b="0" lang="en-US" sz="12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ведомственное взаимодейств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казанию комплексной помощи детям с особенностями развития и их семья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го сопровождения людей с РАС и другими ментальными нарушениями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EBA-8F65-449D-8337-2180784C52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562" name="Прямоугольник 5"/>
          <p:cNvGrpSpPr/>
          <p:nvPr/>
        </p:nvGrpSpPr>
        <p:grpSpPr>
          <a:xfrm>
            <a:off x="2803680" y="1042920"/>
            <a:ext cx="3616200" cy="536760"/>
            <a:chOff x="2803680" y="1042920"/>
            <a:chExt cx="3616200" cy="536760"/>
          </a:xfrm>
        </p:grpSpPr>
        <p:pic>
          <p:nvPicPr>
            <p:cNvPr id="56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803680" y="1042920"/>
              <a:ext cx="3616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2860560" y="1074600"/>
              <a:ext cx="3500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Calibri"/>
                </a:rPr>
                <a:t>2 межведомственных приказа</a:t>
              </a:r>
              <a:endParaRPr b="0" lang="en-US" sz="15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565" name="Группа 28"/>
          <p:cNvGrpSpPr/>
          <p:nvPr/>
        </p:nvGrpSpPr>
        <p:grpSpPr>
          <a:xfrm>
            <a:off x="768240" y="2158920"/>
            <a:ext cx="3659400" cy="2516400"/>
            <a:chOff x="768240" y="2158920"/>
            <a:chExt cx="3659400" cy="2516400"/>
          </a:xfrm>
        </p:grpSpPr>
        <p:sp>
          <p:nvSpPr>
            <p:cNvPr id="566" name="Прямоугольник с двумя скругленными соседними углами 29"/>
            <p:cNvSpPr/>
            <p:nvPr/>
          </p:nvSpPr>
          <p:spPr>
            <a:xfrm>
              <a:off x="821520" y="2158920"/>
              <a:ext cx="3554640" cy="12528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3e68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62626"/>
                  </a:solidFill>
                  <a:latin typeface="Calibri"/>
                </a:rPr>
                <a:t>Об организации постоянно действующей школы для обучения родителей навыкам ухода и реабилитации в домашних условиях за детьми, имеющими особенности развития, на базе медицинский организаций автономного округа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567" name="Прямоугольник 30"/>
            <p:cNvGrpSpPr/>
            <p:nvPr/>
          </p:nvGrpSpPr>
          <p:grpSpPr>
            <a:xfrm>
              <a:off x="768240" y="3381120"/>
              <a:ext cx="3659400" cy="1294200"/>
              <a:chOff x="768240" y="3381120"/>
              <a:chExt cx="3659400" cy="1294200"/>
            </a:xfrm>
          </p:grpSpPr>
          <p:pic>
            <p:nvPicPr>
              <p:cNvPr id="56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68240" y="3381120"/>
                <a:ext cx="3659400" cy="129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821520" y="3411000"/>
                <a:ext cx="355464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</a:t>
                </a:r>
                <a:r>
                  <a:rPr b="0" lang="en-US" sz="1300" spc="-1" strike="noStrike">
                    <a:solidFill>
                      <a:srgbClr val="ffffff"/>
                    </a:solidFill>
                    <a:latin typeface="Calibri"/>
                  </a:rPr>
                  <a:t>I </a:t>
                </a: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полугодии 2017 года проконсультированы: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учреждениями социального обслуживания –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568 родителей,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медицинскими организациями – 120 родителей,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зачислено – 236 родителей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Прямоугольник 33"/>
          <p:cNvGrpSpPr/>
          <p:nvPr/>
        </p:nvGrpSpPr>
        <p:grpSpPr>
          <a:xfrm>
            <a:off x="914400" y="1481040"/>
            <a:ext cx="3206880" cy="480960"/>
            <a:chOff x="914400" y="1481040"/>
            <a:chExt cx="3206880" cy="480960"/>
          </a:xfrm>
        </p:grpSpPr>
        <p:pic>
          <p:nvPicPr>
            <p:cNvPr id="571" name="Прямоугольник 33" descr=""/>
            <p:cNvPicPr/>
            <p:nvPr/>
          </p:nvPicPr>
          <p:blipFill>
            <a:blip r:embed="rId3"/>
            <a:stretch/>
          </p:blipFill>
          <p:spPr>
            <a:xfrm>
              <a:off x="914400" y="1481040"/>
              <a:ext cx="3206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971640" y="1509840"/>
              <a:ext cx="3095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Депсоцразвития Югры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573" name="Прямоугольник 34"/>
          <p:cNvGrpSpPr/>
          <p:nvPr/>
        </p:nvGrpSpPr>
        <p:grpSpPr>
          <a:xfrm>
            <a:off x="914400" y="1798560"/>
            <a:ext cx="3206880" cy="480960"/>
            <a:chOff x="914400" y="1798560"/>
            <a:chExt cx="3206880" cy="480960"/>
          </a:xfrm>
        </p:grpSpPr>
        <p:pic>
          <p:nvPicPr>
            <p:cNvPr id="574" name="Прямоугольник 34" descr=""/>
            <p:cNvPicPr/>
            <p:nvPr/>
          </p:nvPicPr>
          <p:blipFill>
            <a:blip r:embed="rId4"/>
            <a:stretch/>
          </p:blipFill>
          <p:spPr>
            <a:xfrm>
              <a:off x="914400" y="1798560"/>
              <a:ext cx="3206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971640" y="1828800"/>
              <a:ext cx="3095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Депздрав Югры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576" name="Группа 24"/>
          <p:cNvGrpSpPr/>
          <p:nvPr/>
        </p:nvGrpSpPr>
        <p:grpSpPr>
          <a:xfrm>
            <a:off x="4716360" y="2158920"/>
            <a:ext cx="3641760" cy="2516400"/>
            <a:chOff x="4716360" y="2158920"/>
            <a:chExt cx="3641760" cy="2516400"/>
          </a:xfrm>
        </p:grpSpPr>
        <p:sp>
          <p:nvSpPr>
            <p:cNvPr id="577" name="Прямоугольник с двумя скругленными соседними углами 25"/>
            <p:cNvSpPr/>
            <p:nvPr/>
          </p:nvSpPr>
          <p:spPr>
            <a:xfrm>
              <a:off x="4773600" y="2158920"/>
              <a:ext cx="3524760" cy="1215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3e68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62626"/>
                  </a:solidFill>
                  <a:latin typeface="Calibri"/>
                </a:rPr>
                <a:t>О внедрении моделей </a:t>
              </a:r>
              <a:br>
                <a:rPr sz="1400"/>
              </a:br>
              <a:r>
                <a:rPr b="0" lang="ru-RU" sz="1400" spc="-1" strike="noStrike">
                  <a:solidFill>
                    <a:srgbClr val="262626"/>
                  </a:solidFill>
                  <a:latin typeface="Calibri"/>
                </a:rPr>
                <a:t>реабилитационно-образовательного сопровождения детей, имеющих особенности развития, в условиях образовательных организаций, организаций социального обслуживания на дому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578" name="Прямоугольник 26"/>
            <p:cNvGrpSpPr/>
            <p:nvPr/>
          </p:nvGrpSpPr>
          <p:grpSpPr>
            <a:xfrm>
              <a:off x="4716360" y="3316320"/>
              <a:ext cx="3641760" cy="1359000"/>
              <a:chOff x="4716360" y="3316320"/>
              <a:chExt cx="3641760" cy="1359000"/>
            </a:xfrm>
          </p:grpSpPr>
          <p:pic>
            <p:nvPicPr>
              <p:cNvPr id="579" name="Прямоугольник 2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16360" y="3316320"/>
                <a:ext cx="364176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4774680" y="3373920"/>
                <a:ext cx="3525120" cy="11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</a:t>
                </a:r>
                <a:r>
                  <a:rPr b="0" lang="en-US" sz="1300" spc="-1" strike="noStrike">
                    <a:solidFill>
                      <a:srgbClr val="ffffff"/>
                    </a:solidFill>
                    <a:latin typeface="Calibri"/>
                  </a:rPr>
                  <a:t>I </a:t>
                </a: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полугодие 2017 года прошли обучение: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условиях образовательных организаций – </a:t>
                </a:r>
                <a:br>
                  <a:rPr sz="13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31 040 несовершеннолетних,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в условиях организаций социального обслуживания – 581 несовершеннолетних,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ffffff"/>
                    </a:solidFill>
                    <a:latin typeface="Calibri"/>
                  </a:rPr>
                  <a:t>на дому – 288 несовершеннолетних </a:t>
                </a:r>
                <a:endParaRPr b="0" lang="en-US" sz="13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Прямоугольник 36"/>
          <p:cNvGrpSpPr/>
          <p:nvPr/>
        </p:nvGrpSpPr>
        <p:grpSpPr>
          <a:xfrm>
            <a:off x="5022720" y="1481040"/>
            <a:ext cx="3206880" cy="476280"/>
            <a:chOff x="5022720" y="1481040"/>
            <a:chExt cx="3206880" cy="476280"/>
          </a:xfrm>
        </p:grpSpPr>
        <p:pic>
          <p:nvPicPr>
            <p:cNvPr id="582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5022720" y="1481040"/>
              <a:ext cx="3206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076720" y="1509840"/>
              <a:ext cx="30956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Депобразования и молодежи Югры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584" name="Прямоугольник 37"/>
          <p:cNvGrpSpPr/>
          <p:nvPr/>
        </p:nvGrpSpPr>
        <p:grpSpPr>
          <a:xfrm>
            <a:off x="5022720" y="1798560"/>
            <a:ext cx="3206880" cy="480960"/>
            <a:chOff x="5022720" y="1798560"/>
            <a:chExt cx="3206880" cy="480960"/>
          </a:xfrm>
        </p:grpSpPr>
        <p:pic>
          <p:nvPicPr>
            <p:cNvPr id="585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5022720" y="1798560"/>
              <a:ext cx="32068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5076720" y="1828800"/>
              <a:ext cx="3095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Депсоцразвития Югры</a:t>
              </a:r>
              <a:endParaRPr b="0" lang="en-US" sz="1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587" name="Группа 70"/>
          <p:cNvGrpSpPr/>
          <p:nvPr/>
        </p:nvGrpSpPr>
        <p:grpSpPr>
          <a:xfrm>
            <a:off x="6372360" y="1301400"/>
            <a:ext cx="1985760" cy="692640"/>
            <a:chOff x="6372360" y="1301400"/>
            <a:chExt cx="1985760" cy="692640"/>
          </a:xfrm>
        </p:grpSpPr>
        <p:sp>
          <p:nvSpPr>
            <p:cNvPr id="588" name="Прямая соединительная линия 66"/>
            <p:cNvSpPr/>
            <p:nvPr/>
          </p:nvSpPr>
          <p:spPr>
            <a:xfrm>
              <a:off x="8172720" y="1792440"/>
              <a:ext cx="185400" cy="0"/>
            </a:xfrm>
            <a:prstGeom prst="line">
              <a:avLst/>
            </a:prstGeom>
            <a:ln w="19080">
              <a:solidFill>
                <a:srgbClr val="f48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89" name="Прямая соединительная линия 67"/>
            <p:cNvSpPr/>
            <p:nvPr/>
          </p:nvSpPr>
          <p:spPr>
            <a:xfrm flipV="1">
              <a:off x="8358120" y="1301400"/>
              <a:ext cx="0" cy="692280"/>
            </a:xfrm>
            <a:prstGeom prst="line">
              <a:avLst/>
            </a:prstGeom>
            <a:ln w="19080">
              <a:solidFill>
                <a:srgbClr val="f48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90" name="Прямая соединительная линия 68"/>
            <p:cNvSpPr/>
            <p:nvPr/>
          </p:nvSpPr>
          <p:spPr>
            <a:xfrm flipH="1">
              <a:off x="6372360" y="1301760"/>
              <a:ext cx="1985760" cy="0"/>
            </a:xfrm>
            <a:prstGeom prst="line">
              <a:avLst/>
            </a:prstGeom>
            <a:ln w="19080">
              <a:solidFill>
                <a:srgbClr val="f48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91" name="Прямая соединительная линия 71"/>
            <p:cNvSpPr/>
            <p:nvPr/>
          </p:nvSpPr>
          <p:spPr>
            <a:xfrm>
              <a:off x="8172720" y="1994040"/>
              <a:ext cx="185400" cy="0"/>
            </a:xfrm>
            <a:prstGeom prst="line">
              <a:avLst/>
            </a:prstGeom>
            <a:ln w="19080">
              <a:solidFill>
                <a:srgbClr val="f48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592" name="Группа 69"/>
          <p:cNvGrpSpPr/>
          <p:nvPr/>
        </p:nvGrpSpPr>
        <p:grpSpPr>
          <a:xfrm>
            <a:off x="773280" y="1312920"/>
            <a:ext cx="2087280" cy="681120"/>
            <a:chOff x="773280" y="1312920"/>
            <a:chExt cx="2087280" cy="681120"/>
          </a:xfrm>
        </p:grpSpPr>
        <p:sp>
          <p:nvSpPr>
            <p:cNvPr id="593" name="Прямая соединительная линия 8"/>
            <p:cNvSpPr/>
            <p:nvPr/>
          </p:nvSpPr>
          <p:spPr>
            <a:xfrm flipH="1">
              <a:off x="773280" y="1312920"/>
              <a:ext cx="2087280" cy="0"/>
            </a:xfrm>
            <a:prstGeom prst="line">
              <a:avLst/>
            </a:prstGeom>
            <a:ln w="19080">
              <a:solidFill>
                <a:srgbClr val="f48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94" name="Прямая соединительная линия 40"/>
            <p:cNvSpPr/>
            <p:nvPr/>
          </p:nvSpPr>
          <p:spPr>
            <a:xfrm flipV="1">
              <a:off x="773280" y="1312920"/>
              <a:ext cx="0" cy="679680"/>
            </a:xfrm>
            <a:prstGeom prst="line">
              <a:avLst/>
            </a:prstGeom>
            <a:ln w="19080">
              <a:solidFill>
                <a:srgbClr val="f48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95" name="Прямая соединительная линия 59"/>
            <p:cNvSpPr/>
            <p:nvPr/>
          </p:nvSpPr>
          <p:spPr>
            <a:xfrm>
              <a:off x="773280" y="1994040"/>
              <a:ext cx="198360" cy="0"/>
            </a:xfrm>
            <a:prstGeom prst="line">
              <a:avLst/>
            </a:prstGeom>
            <a:ln w="19080">
              <a:solidFill>
                <a:srgbClr val="f48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96" name="Прямая соединительная линия 81"/>
            <p:cNvSpPr/>
            <p:nvPr/>
          </p:nvSpPr>
          <p:spPr>
            <a:xfrm>
              <a:off x="773280" y="1711440"/>
              <a:ext cx="198360" cy="0"/>
            </a:xfrm>
            <a:prstGeom prst="line">
              <a:avLst/>
            </a:prstGeom>
            <a:ln w="19080">
              <a:solidFill>
                <a:srgbClr val="f48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597" name="Прямоугольник 88"/>
          <p:cNvSpPr/>
          <p:nvPr/>
        </p:nvSpPr>
        <p:spPr>
          <a:xfrm>
            <a:off x="314280" y="4797360"/>
            <a:ext cx="8593200" cy="71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тверждена Концепция комплексного сопровождения людей с расстройствами аутистического спектра и другими ментальными нарушениями в Ханты-Мансийском автономном округе – Югре до 2020 года </a:t>
            </a:r>
            <a:br>
              <a:rPr sz="1500"/>
            </a:br>
            <a:r>
              <a:rPr b="1" lang="ru-RU" sz="1400" spc="-1" strike="noStrike">
                <a:solidFill>
                  <a:srgbClr val="7f7f7f"/>
                </a:solidFill>
                <a:latin typeface="Calibri"/>
              </a:rPr>
              <a:t>(распоряжение Правительства Ханты-Мансийского автономного округа – Югры от 05.05.2017 № 261-рп)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Прямоугольник 95"/>
          <p:cNvSpPr/>
          <p:nvPr/>
        </p:nvSpPr>
        <p:spPr>
          <a:xfrm>
            <a:off x="571680" y="5516640"/>
            <a:ext cx="813564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98480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еализуется комплекс мер по развитию эффективных практик оказания комплексной помощи детям группы риска с признаками расстройства аутистического спектра и с расстройством аутистического спектра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6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енность инвалидов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живающих в Ханты-Мансийском автономном округе – Югре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572000" y="1484280"/>
            <a:ext cx="424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состоянию на 01.01.2017 численность инвалидов составляет 56 423 человека ил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,4% от всего населения автономного округа,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них детей-инвалидов – 5 827  человек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ли 1,4% от общей численности детей, проживающих в Ханты-Мансийском автономном округе – Югре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23200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Диаграмма 12" descr=""/>
          <p:cNvPicPr/>
          <p:nvPr/>
        </p:nvPicPr>
        <p:blipFill>
          <a:blip r:embed="rId2"/>
          <a:stretch/>
        </p:blipFill>
        <p:spPr>
          <a:xfrm>
            <a:off x="-6480" y="1268280"/>
            <a:ext cx="4572000" cy="4827600"/>
          </a:xfrm>
          <a:prstGeom prst="rect">
            <a:avLst/>
          </a:prstGeom>
          <a:ln w="0">
            <a:noFill/>
          </a:ln>
        </p:spPr>
      </p:pic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FFA0-CEF9-4C23-BEFE-55778AB1B7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572000" y="3429000"/>
            <a:ext cx="42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Российской Федерации численность инвалидов составляет 12,31 млн. человек или 8,4% от всего населения страны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е обеспечени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арантированное законодательством Российской Федерации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91960" y="260280"/>
            <a:ext cx="1513080" cy="1008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</p:pic>
      <p:sp>
        <p:nvSpPr>
          <p:cNvPr id="271" name="Text Box 6"/>
          <p:cNvSpPr/>
          <p:nvPr/>
        </p:nvSpPr>
        <p:spPr>
          <a:xfrm>
            <a:off x="2798640" y="1146240"/>
            <a:ext cx="616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Федеральный закон от 15.12.2001 № 166-ФЗ </a:t>
            </a:r>
            <a:br>
              <a:rPr sz="1400"/>
            </a:b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«О государственном пенсионном обеспечении в Российской Федерации»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798640" y="3716280"/>
            <a:ext cx="605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Указ Президента Российской Федерации от 26.02.2013 № 175 </a:t>
            </a:r>
            <a:br>
              <a:rPr sz="1400"/>
            </a:b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«О ежемесячных выплатах лицам, осуществляющим уход за детьми-инвалидами и инвалидами с детства I группы»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273" name="Group 9"/>
          <p:cNvGrpSpPr/>
          <p:nvPr/>
        </p:nvGrpSpPr>
        <p:grpSpPr>
          <a:xfrm>
            <a:off x="2222640" y="1708200"/>
            <a:ext cx="334800" cy="282600"/>
            <a:chOff x="2222640" y="1708200"/>
            <a:chExt cx="334800" cy="282600"/>
          </a:xfrm>
        </p:grpSpPr>
        <p:grpSp>
          <p:nvGrpSpPr>
            <p:cNvPr id="274" name="Oval 7"/>
            <p:cNvGrpSpPr/>
            <p:nvPr/>
          </p:nvGrpSpPr>
          <p:grpSpPr>
            <a:xfrm>
              <a:off x="2222640" y="1708200"/>
              <a:ext cx="334800" cy="282600"/>
              <a:chOff x="2222640" y="1708200"/>
              <a:chExt cx="334800" cy="282600"/>
            </a:xfrm>
          </p:grpSpPr>
          <p:pic>
            <p:nvPicPr>
              <p:cNvPr id="275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2640" y="1708200"/>
                <a:ext cx="33480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2318400" y="1733760"/>
                <a:ext cx="13968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77" name="Oval 8"/>
            <p:cNvGrpSpPr/>
            <p:nvPr/>
          </p:nvGrpSpPr>
          <p:grpSpPr>
            <a:xfrm>
              <a:off x="2312640" y="1711800"/>
              <a:ext cx="151200" cy="106560"/>
              <a:chOff x="2312640" y="1711800"/>
              <a:chExt cx="151200" cy="106560"/>
            </a:xfrm>
          </p:grpSpPr>
          <p:pic>
            <p:nvPicPr>
              <p:cNvPr id="278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12640" y="1711800"/>
                <a:ext cx="151200" cy="10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2335320" y="1728360"/>
                <a:ext cx="1076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Text Box 30"/>
          <p:cNvSpPr/>
          <p:nvPr/>
        </p:nvSpPr>
        <p:spPr>
          <a:xfrm>
            <a:off x="2608200" y="1655640"/>
            <a:ext cx="621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Социальная пенсия</a:t>
            </a: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 на ребенка-инвалида в размере 12 082,06  рублей, </a:t>
            </a:r>
            <a:br>
              <a:rPr sz="1400"/>
            </a:b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с учетом районного коэффициента 1,5 – 18 123,09 рублей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Text Box 31"/>
          <p:cNvSpPr/>
          <p:nvPr/>
        </p:nvSpPr>
        <p:spPr>
          <a:xfrm>
            <a:off x="2616120" y="4430880"/>
            <a:ext cx="6278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Ежемесячная выплата</a:t>
            </a: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 неработающим трудоспособным лицам, осуществляющим уход за детьми-инвалидами или инвалидами с детства </a:t>
            </a:r>
            <a:br>
              <a:rPr sz="1400"/>
            </a:b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I </a:t>
            </a: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группы в размере: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родителю (усыновителю) или опекуну (попечителю) – 5 500 рублей </a:t>
            </a:r>
            <a:br>
              <a:rPr sz="1400"/>
            </a:b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(8 250 рублей с учетом р/к 1,5);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другим лицам – 1 200 рублей (1 800 рублей с учетом р/к 1,5)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Text Box 30"/>
          <p:cNvSpPr/>
          <p:nvPr/>
        </p:nvSpPr>
        <p:spPr>
          <a:xfrm>
            <a:off x="2619360" y="2581200"/>
            <a:ext cx="6253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Ежемесячная денежная выплата в размере: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детям-инвалидам в размере 2 527,06 руб.; </a:t>
            </a:r>
            <a:br>
              <a:rPr sz="1400"/>
            </a:b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инвалиды I группы – 3 538,52 рублей; </a:t>
            </a:r>
            <a:br>
              <a:rPr sz="1400"/>
            </a:b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инвалиды II группы – 2 527,06 рублей; </a:t>
            </a:r>
            <a:br>
              <a:rPr sz="1400"/>
            </a:b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инвалиды III группы – 2 022,94 рубля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3087720" y="2120760"/>
            <a:ext cx="571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Федеральный закон 24.11.1995 № 181-ФЗ </a:t>
            </a:r>
            <a:br>
              <a:rPr sz="1400"/>
            </a:b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«О социальной защите инвалидов в Российской Федерации»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284" name="Group 9"/>
          <p:cNvGrpSpPr/>
          <p:nvPr/>
        </p:nvGrpSpPr>
        <p:grpSpPr>
          <a:xfrm>
            <a:off x="2222640" y="2643120"/>
            <a:ext cx="334800" cy="284400"/>
            <a:chOff x="2222640" y="2643120"/>
            <a:chExt cx="334800" cy="284400"/>
          </a:xfrm>
        </p:grpSpPr>
        <p:grpSp>
          <p:nvGrpSpPr>
            <p:cNvPr id="285" name="Oval 7"/>
            <p:cNvGrpSpPr/>
            <p:nvPr/>
          </p:nvGrpSpPr>
          <p:grpSpPr>
            <a:xfrm>
              <a:off x="2222640" y="2643120"/>
              <a:ext cx="334800" cy="284400"/>
              <a:chOff x="2222640" y="2643120"/>
              <a:chExt cx="334800" cy="284400"/>
            </a:xfrm>
          </p:grpSpPr>
          <p:pic>
            <p:nvPicPr>
              <p:cNvPr id="286" name="Oval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222640" y="2643120"/>
                <a:ext cx="334800" cy="28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2318400" y="2666880"/>
                <a:ext cx="13968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88" name="Oval 8"/>
            <p:cNvGrpSpPr/>
            <p:nvPr/>
          </p:nvGrpSpPr>
          <p:grpSpPr>
            <a:xfrm>
              <a:off x="2312640" y="2646720"/>
              <a:ext cx="151200" cy="108360"/>
              <a:chOff x="2312640" y="2646720"/>
              <a:chExt cx="151200" cy="108360"/>
            </a:xfrm>
          </p:grpSpPr>
          <p:pic>
            <p:nvPicPr>
              <p:cNvPr id="289" name="Oval 8" descr=""/>
              <p:cNvPicPr/>
              <p:nvPr/>
            </p:nvPicPr>
            <p:blipFill>
              <a:blip r:embed="rId5"/>
              <a:stretch/>
            </p:blipFill>
            <p:spPr>
              <a:xfrm>
                <a:off x="2312640" y="2646720"/>
                <a:ext cx="151200" cy="1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2335320" y="2661480"/>
                <a:ext cx="10764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Group 9"/>
          <p:cNvGrpSpPr/>
          <p:nvPr/>
        </p:nvGrpSpPr>
        <p:grpSpPr>
          <a:xfrm>
            <a:off x="2222640" y="4587840"/>
            <a:ext cx="334800" cy="282600"/>
            <a:chOff x="2222640" y="4587840"/>
            <a:chExt cx="334800" cy="282600"/>
          </a:xfrm>
        </p:grpSpPr>
        <p:grpSp>
          <p:nvGrpSpPr>
            <p:cNvPr id="292" name="Oval 7"/>
            <p:cNvGrpSpPr/>
            <p:nvPr/>
          </p:nvGrpSpPr>
          <p:grpSpPr>
            <a:xfrm>
              <a:off x="2222640" y="4587840"/>
              <a:ext cx="334800" cy="282600"/>
              <a:chOff x="2222640" y="4587840"/>
              <a:chExt cx="334800" cy="282600"/>
            </a:xfrm>
          </p:grpSpPr>
          <p:pic>
            <p:nvPicPr>
              <p:cNvPr id="293" name="Oval 7" descr=""/>
              <p:cNvPicPr/>
              <p:nvPr/>
            </p:nvPicPr>
            <p:blipFill>
              <a:blip r:embed="rId6"/>
              <a:stretch/>
            </p:blipFill>
            <p:spPr>
              <a:xfrm>
                <a:off x="2222640" y="4587840"/>
                <a:ext cx="33480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2318400" y="4611600"/>
                <a:ext cx="139680" cy="12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95" name="Oval 8"/>
            <p:cNvGrpSpPr/>
            <p:nvPr/>
          </p:nvGrpSpPr>
          <p:grpSpPr>
            <a:xfrm>
              <a:off x="2312640" y="4591440"/>
              <a:ext cx="151200" cy="107640"/>
              <a:chOff x="2312640" y="4591440"/>
              <a:chExt cx="151200" cy="107640"/>
            </a:xfrm>
          </p:grpSpPr>
          <p:pic>
            <p:nvPicPr>
              <p:cNvPr id="296" name="Oval 8" descr=""/>
              <p:cNvPicPr/>
              <p:nvPr/>
            </p:nvPicPr>
            <p:blipFill>
              <a:blip r:embed="rId7"/>
              <a:stretch/>
            </p:blipFill>
            <p:spPr>
              <a:xfrm>
                <a:off x="2312640" y="4591440"/>
                <a:ext cx="15120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2335320" y="4605840"/>
                <a:ext cx="107640" cy="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Rectangle 6"/>
          <p:cNvSpPr/>
          <p:nvPr/>
        </p:nvSpPr>
        <p:spPr>
          <a:xfrm>
            <a:off x="-1440" y="1665360"/>
            <a:ext cx="21222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арантированный объем выплат для детей-инвалидов составляет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20 650,15 рублей,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том числе социальная пенсия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18 123,09  рубля.</a:t>
            </a:r>
            <a:endParaRPr b="0" lang="en-US" sz="15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редний размер пенсии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 инвалидности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Югре в 2017 году составляет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13 320,75 рублей</a:t>
            </a:r>
            <a:endParaRPr b="0" lang="en-US" sz="15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174C-CE78-405F-A02A-E827A815D9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Диаграмма 30" descr=""/>
          <p:cNvPicPr/>
          <p:nvPr/>
        </p:nvPicPr>
        <p:blipFill>
          <a:blip r:embed="rId1"/>
          <a:stretch/>
        </p:blipFill>
        <p:spPr>
          <a:xfrm>
            <a:off x="6480" y="1047600"/>
            <a:ext cx="4601880" cy="3780000"/>
          </a:xfrm>
          <a:prstGeom prst="rect">
            <a:avLst/>
          </a:prstGeom>
          <a:ln w="0">
            <a:noFill/>
          </a:ln>
        </p:spPr>
      </p:pic>
      <p:grpSp>
        <p:nvGrpSpPr>
          <p:cNvPr id="301" name="AutoShape 5"/>
          <p:cNvGrpSpPr/>
          <p:nvPr/>
        </p:nvGrpSpPr>
        <p:grpSpPr>
          <a:xfrm>
            <a:off x="1725480" y="4797360"/>
            <a:ext cx="5712120" cy="1036800"/>
            <a:chOff x="1725480" y="4797360"/>
            <a:chExt cx="5712120" cy="1036800"/>
          </a:xfrm>
        </p:grpSpPr>
        <p:pic>
          <p:nvPicPr>
            <p:cNvPr id="302" name="AutoShape 5" descr=""/>
            <p:cNvPicPr/>
            <p:nvPr/>
          </p:nvPicPr>
          <p:blipFill>
            <a:blip r:embed="rId2"/>
            <a:stretch/>
          </p:blipFill>
          <p:spPr>
            <a:xfrm>
              <a:off x="1725480" y="4797360"/>
              <a:ext cx="57121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906560" y="4952880"/>
              <a:ext cx="5346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Calibri"/>
                </a:rPr>
                <a:t>Средний размер компенсации по оплате жилого помещения </a:t>
              </a:r>
              <a:br>
                <a:rPr sz="1500"/>
              </a:br>
              <a:r>
                <a:rPr b="0" lang="ru-RU" sz="1500" spc="-1" strike="noStrike">
                  <a:solidFill>
                    <a:srgbClr val="ffffff"/>
                  </a:solidFill>
                  <a:latin typeface="Calibri"/>
                </a:rPr>
                <a:t>и коммунальных услуг в </a:t>
              </a:r>
              <a:r>
                <a:rPr b="0" lang="en-US" sz="15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r>
                <a:rPr b="0" lang="ru-RU" sz="1500" spc="-1" strike="noStrike">
                  <a:solidFill>
                    <a:srgbClr val="ffffff"/>
                  </a:solidFill>
                  <a:latin typeface="Calibri"/>
                </a:rPr>
                <a:t> полугодии 2017 года </a:t>
              </a:r>
              <a:br>
                <a:rPr sz="1500"/>
              </a:br>
              <a:r>
                <a:rPr b="0" lang="ru-RU" sz="1500" spc="-1" strike="noStrike">
                  <a:solidFill>
                    <a:srgbClr val="ffffff"/>
                  </a:solidFill>
                  <a:latin typeface="Calibri"/>
                </a:rPr>
                <a:t>составляет 756,6 рублей на 1 льготополучателя</a:t>
              </a:r>
              <a:endParaRPr b="0" lang="en-US" sz="15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pic>
        <p:nvPicPr>
          <p:cNvPr id="304" name="Picture 35" descr="95701013"/>
          <p:cNvPicPr/>
          <p:nvPr/>
        </p:nvPicPr>
        <p:blipFill>
          <a:blip r:embed="rId3"/>
          <a:stretch/>
        </p:blipFill>
        <p:spPr>
          <a:xfrm>
            <a:off x="0" y="4826160"/>
            <a:ext cx="1692360" cy="963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6" descr="image3153069"/>
          <p:cNvPicPr/>
          <p:nvPr/>
        </p:nvPicPr>
        <p:blipFill>
          <a:blip r:embed="rId4"/>
          <a:stretch/>
        </p:blipFill>
        <p:spPr>
          <a:xfrm>
            <a:off x="7451640" y="4826160"/>
            <a:ext cx="1692360" cy="9633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ры поддержки по оплате жилого помещения и коммунальных услуг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4643280" y="1835280"/>
            <a:ext cx="42069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Компенсация</a:t>
            </a: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 в размере 50 % расходов 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на оплату жилых помещений и коммунальных услуг  инвалидам и семьям, имеющим детей-инвалидов.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Компенсация </a:t>
            </a: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расходов на уплату взносов 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на капитальный ремонт в размере 50%  инвалидам I и II групп, детям-инвалидам, гражданам, имеющих детей-инвалидов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4427640" y="1004760"/>
            <a:ext cx="443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Федеральный закон 24.11.1995 № 181-ФЗ </a:t>
            </a:r>
            <a:br>
              <a:rPr sz="1600"/>
            </a:b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«О социальной защите инвалидов </a:t>
            </a:r>
            <a:br>
              <a:rPr sz="1600"/>
            </a:b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в Российской Федерации»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309" name="Group 9"/>
          <p:cNvGrpSpPr/>
          <p:nvPr/>
        </p:nvGrpSpPr>
        <p:grpSpPr>
          <a:xfrm>
            <a:off x="4287960" y="1906560"/>
            <a:ext cx="334800" cy="282600"/>
            <a:chOff x="4287960" y="1906560"/>
            <a:chExt cx="334800" cy="282600"/>
          </a:xfrm>
        </p:grpSpPr>
        <p:grpSp>
          <p:nvGrpSpPr>
            <p:cNvPr id="310" name="Oval 7"/>
            <p:cNvGrpSpPr/>
            <p:nvPr/>
          </p:nvGrpSpPr>
          <p:grpSpPr>
            <a:xfrm>
              <a:off x="4287960" y="1906560"/>
              <a:ext cx="334800" cy="282600"/>
              <a:chOff x="4287960" y="1906560"/>
              <a:chExt cx="334800" cy="282600"/>
            </a:xfrm>
          </p:grpSpPr>
          <p:pic>
            <p:nvPicPr>
              <p:cNvPr id="311" name="Oval 7" descr=""/>
              <p:cNvPicPr/>
              <p:nvPr/>
            </p:nvPicPr>
            <p:blipFill>
              <a:blip r:embed="rId5"/>
              <a:stretch/>
            </p:blipFill>
            <p:spPr>
              <a:xfrm>
                <a:off x="4287960" y="1906560"/>
                <a:ext cx="33480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4386600" y="1930680"/>
                <a:ext cx="139680" cy="12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313" name="Oval 8"/>
            <p:cNvGrpSpPr/>
            <p:nvPr/>
          </p:nvGrpSpPr>
          <p:grpSpPr>
            <a:xfrm>
              <a:off x="4381560" y="1910160"/>
              <a:ext cx="151200" cy="107640"/>
              <a:chOff x="4381560" y="1910160"/>
              <a:chExt cx="151200" cy="107640"/>
            </a:xfrm>
          </p:grpSpPr>
          <p:pic>
            <p:nvPicPr>
              <p:cNvPr id="314" name="Oval 8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1560" y="1910160"/>
                <a:ext cx="15120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4403520" y="1925280"/>
                <a:ext cx="107640" cy="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Group 9"/>
          <p:cNvGrpSpPr/>
          <p:nvPr/>
        </p:nvGrpSpPr>
        <p:grpSpPr>
          <a:xfrm>
            <a:off x="4305240" y="3022560"/>
            <a:ext cx="335160" cy="282600"/>
            <a:chOff x="4305240" y="3022560"/>
            <a:chExt cx="335160" cy="282600"/>
          </a:xfrm>
        </p:grpSpPr>
        <p:grpSp>
          <p:nvGrpSpPr>
            <p:cNvPr id="317" name="Oval 7"/>
            <p:cNvGrpSpPr/>
            <p:nvPr/>
          </p:nvGrpSpPr>
          <p:grpSpPr>
            <a:xfrm>
              <a:off x="4305240" y="3022560"/>
              <a:ext cx="335160" cy="282600"/>
              <a:chOff x="4305240" y="3022560"/>
              <a:chExt cx="335160" cy="282600"/>
            </a:xfrm>
          </p:grpSpPr>
          <p:pic>
            <p:nvPicPr>
              <p:cNvPr id="318" name="Oval 7" descr=""/>
              <p:cNvPicPr/>
              <p:nvPr/>
            </p:nvPicPr>
            <p:blipFill>
              <a:blip r:embed="rId7"/>
              <a:stretch/>
            </p:blipFill>
            <p:spPr>
              <a:xfrm>
                <a:off x="4305240" y="3022560"/>
                <a:ext cx="33516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4403520" y="3047040"/>
                <a:ext cx="140040" cy="12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320" name="Oval 8"/>
            <p:cNvGrpSpPr/>
            <p:nvPr/>
          </p:nvGrpSpPr>
          <p:grpSpPr>
            <a:xfrm>
              <a:off x="4398840" y="3026160"/>
              <a:ext cx="151200" cy="107640"/>
              <a:chOff x="4398840" y="3026160"/>
              <a:chExt cx="151200" cy="107640"/>
            </a:xfrm>
          </p:grpSpPr>
          <p:pic>
            <p:nvPicPr>
              <p:cNvPr id="321" name="Oval 8" descr=""/>
              <p:cNvPicPr/>
              <p:nvPr/>
            </p:nvPicPr>
            <p:blipFill>
              <a:blip r:embed="rId8"/>
              <a:stretch/>
            </p:blipFill>
            <p:spPr>
              <a:xfrm>
                <a:off x="4398840" y="3026160"/>
                <a:ext cx="15120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4420440" y="3041280"/>
                <a:ext cx="107640" cy="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428D-2DE8-4407-9726-5AA0DC9E25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0160" y="18864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Ханты-Мансийского автономного округа – Югры от 07.07.2004 № 45-оз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 поддержке семьи материнства, отцовства и детств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анты-Мансийском автономном округе – Югре»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2556000" y="137304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танавливает  ежемесячное социальное пособие на детей-инвалидов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2017 году – 1 755 рублей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26" name="Диаграмма 10" descr=""/>
          <p:cNvPicPr/>
          <p:nvPr/>
        </p:nvPicPr>
        <p:blipFill>
          <a:blip r:embed="rId1"/>
          <a:stretch/>
        </p:blipFill>
        <p:spPr>
          <a:xfrm>
            <a:off x="36360" y="2023920"/>
            <a:ext cx="4316400" cy="3370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4"/>
          <p:cNvSpPr/>
          <p:nvPr/>
        </p:nvSpPr>
        <p:spPr>
          <a:xfrm>
            <a:off x="-23760" y="5373720"/>
            <a:ext cx="32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262626"/>
                </a:solidFill>
                <a:latin typeface="Calibri"/>
              </a:rPr>
              <a:t>пособие ежегодно индексируется</a:t>
            </a:r>
            <a:endParaRPr b="0" lang="en-US" sz="15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65CE-5BF2-46DF-B98E-198A6D7759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29" name="Диаграмма 6" descr=""/>
          <p:cNvPicPr/>
          <p:nvPr/>
        </p:nvPicPr>
        <p:blipFill>
          <a:blip r:embed="rId2"/>
          <a:stretch/>
        </p:blipFill>
        <p:spPr>
          <a:xfrm>
            <a:off x="4498920" y="1974960"/>
            <a:ext cx="43210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0160" y="18864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Ханты-Мансийского автономного округа – Югры от 07.11.2006 № 115-оз «О мерах социальной поддержки отдельных категорий граждан в Ханты-Мансийском автономном округе – Югре»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Text Box 30"/>
          <p:cNvSpPr/>
          <p:nvPr/>
        </p:nvSpPr>
        <p:spPr>
          <a:xfrm>
            <a:off x="1403280" y="1417680"/>
            <a:ext cx="75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танавливает  ежемесячное социальное пособие инвалидам с детств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упп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2017 году – 1 325 рублей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32" name="Диаграмма 5" descr=""/>
          <p:cNvPicPr/>
          <p:nvPr/>
        </p:nvPicPr>
        <p:blipFill>
          <a:blip r:embed="rId1"/>
          <a:stretch/>
        </p:blipFill>
        <p:spPr>
          <a:xfrm>
            <a:off x="4645080" y="2127240"/>
            <a:ext cx="4249800" cy="3462480"/>
          </a:xfrm>
          <a:prstGeom prst="rect">
            <a:avLst/>
          </a:prstGeom>
          <a:ln w="0">
            <a:noFill/>
          </a:ln>
        </p:spPr>
      </p:pic>
      <p:sp>
        <p:nvSpPr>
          <p:cNvPr id="3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6C87-A252-420E-9C59-9C7A807402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34" name="Диаграмма 7" descr=""/>
          <p:cNvPicPr/>
          <p:nvPr/>
        </p:nvPicPr>
        <p:blipFill>
          <a:blip r:embed="rId2"/>
          <a:stretch/>
        </p:blipFill>
        <p:spPr>
          <a:xfrm>
            <a:off x="36360" y="2004840"/>
            <a:ext cx="4322880" cy="32990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4"/>
          <p:cNvSpPr/>
          <p:nvPr/>
        </p:nvSpPr>
        <p:spPr>
          <a:xfrm>
            <a:off x="-23760" y="5373720"/>
            <a:ext cx="32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262626"/>
                </a:solidFill>
                <a:latin typeface="Calibri"/>
              </a:rPr>
              <a:t>пособие ежегодно индексируется</a:t>
            </a:r>
            <a:endParaRPr b="0" lang="en-US" sz="15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AutoShape 10"/>
          <p:cNvGrpSpPr/>
          <p:nvPr/>
        </p:nvGrpSpPr>
        <p:grpSpPr>
          <a:xfrm>
            <a:off x="3706920" y="3767040"/>
            <a:ext cx="1743120" cy="811440"/>
            <a:chOff x="3706920" y="3767040"/>
            <a:chExt cx="1743120" cy="811440"/>
          </a:xfrm>
        </p:grpSpPr>
        <p:pic>
          <p:nvPicPr>
            <p:cNvPr id="337" name="AutoShape 10" descr=""/>
            <p:cNvPicPr/>
            <p:nvPr/>
          </p:nvPicPr>
          <p:blipFill>
            <a:blip r:embed="rId1"/>
            <a:stretch/>
          </p:blipFill>
          <p:spPr>
            <a:xfrm>
              <a:off x="3706920" y="3767040"/>
              <a:ext cx="17431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765600" y="3978360"/>
              <a:ext cx="16207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3848760" y="4078440"/>
            <a:ext cx="14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d3a"/>
                </a:solidFill>
                <a:latin typeface="Calibri"/>
              </a:rPr>
              <a:t>на воспитание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FFC9-27AC-4A86-8FDA-104E558AA5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111600" y="475920"/>
            <a:ext cx="909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он Ханты-Мансийского автономного округа – Югры  от 02.12.2005 № 115-оз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О мерах по обеспечению прав детей-инвалидов на воспитание, обуч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бразование, прав инвалидов на образование и о наделении органов местного самоуправления отдельными государственными полномочиями по обеспечению прав детей-инвалидов на воспитание, обучение и образование в Ханты-Мансийском автономном округе – Югре»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342" name="AutoShape 9"/>
          <p:cNvGrpSpPr/>
          <p:nvPr/>
        </p:nvGrpSpPr>
        <p:grpSpPr>
          <a:xfrm>
            <a:off x="3865680" y="3213000"/>
            <a:ext cx="1633320" cy="809640"/>
            <a:chOff x="3865680" y="3213000"/>
            <a:chExt cx="1633320" cy="809640"/>
          </a:xfrm>
        </p:grpSpPr>
        <p:pic>
          <p:nvPicPr>
            <p:cNvPr id="343" name="AutoShape 9" descr=""/>
            <p:cNvPicPr/>
            <p:nvPr/>
          </p:nvPicPr>
          <p:blipFill>
            <a:blip r:embed="rId2"/>
            <a:stretch/>
          </p:blipFill>
          <p:spPr>
            <a:xfrm>
              <a:off x="3865680" y="3213000"/>
              <a:ext cx="16333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924360" y="3421080"/>
              <a:ext cx="1511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45" name="Text Box 13"/>
          <p:cNvSpPr/>
          <p:nvPr/>
        </p:nvSpPr>
        <p:spPr>
          <a:xfrm>
            <a:off x="3851280" y="347040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d3a"/>
                </a:solidFill>
                <a:latin typeface="Calibri"/>
              </a:rPr>
              <a:t>на обучение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AutoShape 15"/>
          <p:cNvSpPr/>
          <p:nvPr/>
        </p:nvSpPr>
        <p:spPr>
          <a:xfrm>
            <a:off x="68400" y="1844640"/>
            <a:ext cx="3047760" cy="3888000"/>
          </a:xfrm>
          <a:custGeom>
            <a:avLst/>
            <a:gdLst>
              <a:gd name="textAreaLeft" fmla="*/ 148680 w 3047760"/>
              <a:gd name="textAreaRight" fmla="*/ 2899080 w 3047760"/>
              <a:gd name="textAreaTop" fmla="*/ 148680 h 3888000"/>
              <a:gd name="textAreaBottom" fmla="*/ 3739320 h 3888000"/>
            </a:gdLst>
            <a:ahLst/>
            <a:rect l="textAreaLeft" t="textAreaTop" r="textAreaRight" b="textAreaBottom"/>
            <a:pathLst>
              <a:path w="21600" h="27554">
                <a:moveTo>
                  <a:pt x="3600" y="0"/>
                </a:moveTo>
                <a:arcTo wR="3600" hR="3600" stAng="16200000" swAng="-5400000"/>
                <a:lnTo>
                  <a:pt x="0" y="23954"/>
                </a:lnTo>
                <a:arcTo wR="3600" hR="3600" stAng="10800000" swAng="-5400000"/>
                <a:lnTo>
                  <a:pt x="18000" y="27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4fb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Rectangle 31"/>
          <p:cNvSpPr/>
          <p:nvPr/>
        </p:nvSpPr>
        <p:spPr>
          <a:xfrm>
            <a:off x="163440" y="1868400"/>
            <a:ext cx="2952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- на оплату доступа к сети Интернет при обучении на дому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жемесячно не более 1 863 рублей;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а подключение к сети Интернет для дистанционного обучен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диновремен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более 124 рублей;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а обучение  на дому проживающим в сельской местност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жемесяч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 231 рубль;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а обучение  на дому проживающим в городской местност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жемесяч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 979 рублей;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- на оплату услуг переводчиков-дактилолого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ежегод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более 6 177 рублей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AutoShape 18"/>
          <p:cNvSpPr/>
          <p:nvPr/>
        </p:nvSpPr>
        <p:spPr>
          <a:xfrm>
            <a:off x="6081840" y="1989000"/>
            <a:ext cx="2952720" cy="374364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743640"/>
              <a:gd name="textAreaBottom" fmla="*/ 3599640 h 3743640"/>
            </a:gdLst>
            <a:ahLst/>
            <a:rect l="textAreaLeft" t="textAreaTop" r="textAreaRight" b="textAreaBottom"/>
            <a:pathLst>
              <a:path w="21600" h="27385">
                <a:moveTo>
                  <a:pt x="3600" y="0"/>
                </a:moveTo>
                <a:arcTo wR="3600" hR="3600" stAng="16200000" swAng="-5400000"/>
                <a:lnTo>
                  <a:pt x="0" y="23785"/>
                </a:lnTo>
                <a:arcTo wR="3600" hR="3600" stAng="10800000" swAng="-5400000"/>
                <a:lnTo>
                  <a:pt x="18000" y="273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4fb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Rectangle 30"/>
          <p:cNvSpPr/>
          <p:nvPr/>
        </p:nvSpPr>
        <p:spPr>
          <a:xfrm>
            <a:off x="6154560" y="2435400"/>
            <a:ext cx="2791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а приобретение специальных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учебных пособ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 литературы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ля учащих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 профессиональных образовательных организациях ежегодно 3 727 рублей;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образовательных организациях высшего образован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исключением обучающих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федеральных государственных образовательных учреждениях, ежегодно 5 962 рубля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350" name="Group 33"/>
          <p:cNvGrpSpPr/>
          <p:nvPr/>
        </p:nvGrpSpPr>
        <p:grpSpPr>
          <a:xfrm>
            <a:off x="3173400" y="4892760"/>
            <a:ext cx="2808000" cy="530280"/>
            <a:chOff x="3173400" y="4892760"/>
            <a:chExt cx="2808000" cy="530280"/>
          </a:xfrm>
        </p:grpSpPr>
        <p:sp>
          <p:nvSpPr>
            <p:cNvPr id="351" name="AutoShape 34"/>
            <p:cNvSpPr/>
            <p:nvPr/>
          </p:nvSpPr>
          <p:spPr>
            <a:xfrm>
              <a:off x="3173400" y="4892760"/>
              <a:ext cx="2808000" cy="53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4fbf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352" name="Text Box 35"/>
            <p:cNvSpPr/>
            <p:nvPr/>
          </p:nvSpPr>
          <p:spPr>
            <a:xfrm>
              <a:off x="3280320" y="5091120"/>
              <a:ext cx="162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53" name="Rectangle 36"/>
          <p:cNvSpPr/>
          <p:nvPr/>
        </p:nvSpPr>
        <p:spPr>
          <a:xfrm>
            <a:off x="3019320" y="4878360"/>
            <a:ext cx="300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воспитание на дому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жемесячно  2 447 рублей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в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олугоди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2017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да –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72 получателя)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354" name="AutoShape 8"/>
          <p:cNvGrpSpPr/>
          <p:nvPr/>
        </p:nvGrpSpPr>
        <p:grpSpPr>
          <a:xfrm>
            <a:off x="3687840" y="2670120"/>
            <a:ext cx="1633320" cy="804960"/>
            <a:chOff x="3687840" y="2670120"/>
            <a:chExt cx="1633320" cy="804960"/>
          </a:xfrm>
        </p:grpSpPr>
        <p:pic>
          <p:nvPicPr>
            <p:cNvPr id="355" name="AutoShape 8" descr=""/>
            <p:cNvPicPr/>
            <p:nvPr/>
          </p:nvPicPr>
          <p:blipFill>
            <a:blip r:embed="rId3"/>
            <a:stretch/>
          </p:blipFill>
          <p:spPr>
            <a:xfrm>
              <a:off x="3687840" y="2670120"/>
              <a:ext cx="16333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749760" y="2878200"/>
              <a:ext cx="15127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57" name="Text Box 12"/>
          <p:cNvSpPr/>
          <p:nvPr/>
        </p:nvSpPr>
        <p:spPr>
          <a:xfrm>
            <a:off x="3728160" y="296244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d3a"/>
                </a:solidFill>
                <a:latin typeface="Calibri"/>
              </a:rPr>
              <a:t>на образование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358" name="AutoShape 26"/>
          <p:cNvGrpSpPr/>
          <p:nvPr/>
        </p:nvGrpSpPr>
        <p:grpSpPr>
          <a:xfrm>
            <a:off x="3230640" y="2060640"/>
            <a:ext cx="2693880" cy="931680"/>
            <a:chOff x="3230640" y="2060640"/>
            <a:chExt cx="2693880" cy="931680"/>
          </a:xfrm>
        </p:grpSpPr>
        <p:pic>
          <p:nvPicPr>
            <p:cNvPr id="359" name="AutoShape 26" descr=""/>
            <p:cNvPicPr/>
            <p:nvPr/>
          </p:nvPicPr>
          <p:blipFill>
            <a:blip r:embed="rId4"/>
            <a:stretch/>
          </p:blipFill>
          <p:spPr>
            <a:xfrm>
              <a:off x="3230640" y="2060640"/>
              <a:ext cx="26938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284640" y="2271600"/>
              <a:ext cx="2585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8 видов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компенсаций затрат </a:t>
              </a: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61" name="AutoShape 66"/>
          <p:cNvSpPr/>
          <p:nvPr/>
        </p:nvSpPr>
        <p:spPr>
          <a:xfrm>
            <a:off x="3147840" y="2962440"/>
            <a:ext cx="500400" cy="1295280"/>
          </a:xfrm>
          <a:prstGeom prst="leftArrow">
            <a:avLst>
              <a:gd name="adj1" fmla="val 62037"/>
              <a:gd name="adj2" fmla="val 54861"/>
            </a:avLst>
          </a:prstGeom>
          <a:gradFill rotWithShape="0">
            <a:gsLst>
              <a:gs pos="0">
                <a:srgbClr val="969696"/>
              </a:gs>
              <a:gs pos="100000">
                <a:srgbClr val="006666">
                  <a:alpha val="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AutoShape 66"/>
          <p:cNvSpPr/>
          <p:nvPr/>
        </p:nvSpPr>
        <p:spPr>
          <a:xfrm rot="10800000">
            <a:off x="5540040" y="2962440"/>
            <a:ext cx="500040" cy="1295280"/>
          </a:xfrm>
          <a:prstGeom prst="leftArrow">
            <a:avLst>
              <a:gd name="adj1" fmla="val 62037"/>
              <a:gd name="adj2" fmla="val 54861"/>
            </a:avLst>
          </a:prstGeom>
          <a:gradFill rotWithShape="0">
            <a:gsLst>
              <a:gs pos="0">
                <a:srgbClr val="969696"/>
              </a:gs>
              <a:gs pos="100000">
                <a:srgbClr val="006666">
                  <a:alpha val="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AutoShape 66"/>
          <p:cNvSpPr/>
          <p:nvPr/>
        </p:nvSpPr>
        <p:spPr>
          <a:xfrm rot="16200000">
            <a:off x="4479120" y="4110840"/>
            <a:ext cx="193680" cy="1154160"/>
          </a:xfrm>
          <a:prstGeom prst="leftArrow">
            <a:avLst>
              <a:gd name="adj1" fmla="val 62037"/>
              <a:gd name="adj2" fmla="val 54861"/>
            </a:avLst>
          </a:prstGeom>
          <a:gradFill rotWithShape="0">
            <a:gsLst>
              <a:gs pos="0">
                <a:srgbClr val="969696"/>
              </a:gs>
              <a:gs pos="100000">
                <a:srgbClr val="006666">
                  <a:alpha val="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3" descr=""/>
          <p:cNvPicPr/>
          <p:nvPr/>
        </p:nvPicPr>
        <p:blipFill>
          <a:blip r:embed="rId1"/>
          <a:stretch/>
        </p:blipFill>
        <p:spPr>
          <a:xfrm>
            <a:off x="-262080" y="3017880"/>
            <a:ext cx="2603520" cy="190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7360" y="1821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ая реабилитация инвалидов, детей-инвалид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анты-Мансийском автономном округе – Югре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3646440" y="3213000"/>
            <a:ext cx="9097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367" name="Группа 5"/>
          <p:cNvGrpSpPr/>
          <p:nvPr/>
        </p:nvGrpSpPr>
        <p:grpSpPr>
          <a:xfrm>
            <a:off x="117360" y="4556160"/>
            <a:ext cx="2799000" cy="1746360"/>
            <a:chOff x="117360" y="4556160"/>
            <a:chExt cx="2799000" cy="1746360"/>
          </a:xfrm>
        </p:grpSpPr>
        <p:sp>
          <p:nvSpPr>
            <p:cNvPr id="368" name="AutoShape 69"/>
            <p:cNvSpPr/>
            <p:nvPr/>
          </p:nvSpPr>
          <p:spPr>
            <a:xfrm>
              <a:off x="136080" y="5003640"/>
              <a:ext cx="2780280" cy="129888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1908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262626"/>
                  </a:solidFill>
                  <a:latin typeface="Calibri"/>
                </a:rPr>
                <a:t>          </a:t>
              </a:r>
              <a:r>
                <a:rPr b="0" lang="ru-RU" sz="1500" spc="-1" strike="noStrike">
                  <a:solidFill>
                    <a:srgbClr val="262626"/>
                  </a:solidFill>
                  <a:latin typeface="Calibri"/>
                </a:rPr>
                <a:t>Предоставление </a:t>
              </a:r>
              <a:br>
                <a:rPr sz="1500"/>
              </a:br>
              <a:r>
                <a:rPr b="0" lang="ru-RU" sz="1500" spc="-1" strike="noStrike">
                  <a:solidFill>
                    <a:srgbClr val="262626"/>
                  </a:solidFill>
                  <a:latin typeface="Calibri"/>
                </a:rPr>
                <a:t>услуг на дому </a:t>
              </a:r>
              <a:endParaRPr b="0" lang="en-US" sz="1500" spc="-1" strike="noStrike">
                <a:solidFill>
                  <a:srgbClr val="26262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62626"/>
                  </a:solidFill>
                  <a:latin typeface="Calibri"/>
                </a:rPr>
                <a:t>  </a:t>
              </a: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2016 год – 2 056 человек</a:t>
              </a:r>
              <a:endParaRPr b="0" lang="en-US" sz="1300" spc="-1" strike="noStrike">
                <a:solidFill>
                  <a:srgbClr val="26262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Calibri"/>
                </a:rPr>
                <a:t>I </a:t>
              </a: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полугодие 2017 года – </a:t>
              </a:r>
              <a:br>
                <a:rPr sz="1300"/>
              </a:b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1 342 человека</a:t>
              </a:r>
              <a:endParaRPr b="0" lang="en-US" sz="13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369" name="Group 71"/>
            <p:cNvGrpSpPr/>
            <p:nvPr/>
          </p:nvGrpSpPr>
          <p:grpSpPr>
            <a:xfrm>
              <a:off x="117360" y="4556160"/>
              <a:ext cx="565920" cy="951120"/>
              <a:chOff x="117360" y="4556160"/>
              <a:chExt cx="565920" cy="951120"/>
            </a:xfrm>
          </p:grpSpPr>
          <p:sp>
            <p:nvSpPr>
              <p:cNvPr id="370" name="Freeform 72"/>
              <p:cNvSpPr/>
              <p:nvPr/>
            </p:nvSpPr>
            <p:spPr>
              <a:xfrm>
                <a:off x="267480" y="4556160"/>
                <a:ext cx="262440" cy="2538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solidFill>
                  <a:srgbClr val="f7f161"/>
                </a:solidFill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371" name="Freeform 73"/>
              <p:cNvSpPr/>
              <p:nvPr/>
            </p:nvSpPr>
            <p:spPr>
              <a:xfrm>
                <a:off x="117360" y="4817880"/>
                <a:ext cx="565920" cy="68940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solidFill>
                  <a:srgbClr val="f7f161"/>
                </a:solidFill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Группа 68"/>
          <p:cNvGrpSpPr/>
          <p:nvPr/>
        </p:nvGrpSpPr>
        <p:grpSpPr>
          <a:xfrm>
            <a:off x="6175440" y="4548240"/>
            <a:ext cx="2797200" cy="1746360"/>
            <a:chOff x="6175440" y="4548240"/>
            <a:chExt cx="2797200" cy="1746360"/>
          </a:xfrm>
        </p:grpSpPr>
        <p:sp>
          <p:nvSpPr>
            <p:cNvPr id="373" name="AutoShape 69"/>
            <p:cNvSpPr/>
            <p:nvPr/>
          </p:nvSpPr>
          <p:spPr>
            <a:xfrm>
              <a:off x="6194160" y="4995720"/>
              <a:ext cx="2778480" cy="129888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1908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262626"/>
                  </a:solidFill>
                  <a:latin typeface="Calibri"/>
                </a:rPr>
                <a:t>Стационарное </a:t>
              </a:r>
              <a:br>
                <a:rPr sz="1500"/>
              </a:br>
              <a:r>
                <a:rPr b="0" lang="ru-RU" sz="1500" spc="-1" strike="noStrike">
                  <a:solidFill>
                    <a:srgbClr val="262626"/>
                  </a:solidFill>
                  <a:latin typeface="Calibri"/>
                </a:rPr>
                <a:t>обслуживание </a:t>
              </a:r>
              <a:endParaRPr b="0" lang="en-US" sz="1500" spc="-1" strike="noStrike">
                <a:solidFill>
                  <a:srgbClr val="26262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262626"/>
                  </a:solidFill>
                  <a:latin typeface="Calibri"/>
                </a:rPr>
                <a:t>             </a:t>
              </a: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2016 год – 960 человек</a:t>
              </a:r>
              <a:endParaRPr b="0" lang="en-US" sz="1300" spc="-1" strike="noStrike">
                <a:solidFill>
                  <a:srgbClr val="26262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I полугодие 2017 года – </a:t>
              </a:r>
              <a:br>
                <a:rPr sz="1300"/>
              </a:b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874 человека</a:t>
              </a:r>
              <a:endParaRPr b="0" lang="en-US" sz="13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374" name="Group 71"/>
            <p:cNvGrpSpPr/>
            <p:nvPr/>
          </p:nvGrpSpPr>
          <p:grpSpPr>
            <a:xfrm>
              <a:off x="6175440" y="4548240"/>
              <a:ext cx="565560" cy="951120"/>
              <a:chOff x="6175440" y="4548240"/>
              <a:chExt cx="565560" cy="951120"/>
            </a:xfrm>
          </p:grpSpPr>
          <p:sp>
            <p:nvSpPr>
              <p:cNvPr id="375" name="Freeform 72"/>
              <p:cNvSpPr/>
              <p:nvPr/>
            </p:nvSpPr>
            <p:spPr>
              <a:xfrm>
                <a:off x="6326640" y="4548240"/>
                <a:ext cx="262800" cy="2538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solidFill>
                  <a:srgbClr val="f7f161"/>
                </a:solidFill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376" name="Freeform 73"/>
              <p:cNvSpPr/>
              <p:nvPr/>
            </p:nvSpPr>
            <p:spPr>
              <a:xfrm>
                <a:off x="6175440" y="4809960"/>
                <a:ext cx="565560" cy="68940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solidFill>
                  <a:srgbClr val="f7f161"/>
                </a:solidFill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7B43-EF76-414E-9701-CA09F25E87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78" name="Picture 34" descr=""/>
          <p:cNvPicPr/>
          <p:nvPr/>
        </p:nvPicPr>
        <p:blipFill>
          <a:blip r:embed="rId2"/>
          <a:stretch/>
        </p:blipFill>
        <p:spPr>
          <a:xfrm>
            <a:off x="6802560" y="639720"/>
            <a:ext cx="2603520" cy="1895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5" descr="C:\Users\KolesnikovaDR\Desktop\Колесникова\Презентации\Дума хмао\Депутатские слушания 2017\фото инвалиды\3.JPG"/>
          <p:cNvPicPr/>
          <p:nvPr/>
        </p:nvPicPr>
        <p:blipFill>
          <a:blip r:embed="rId3"/>
          <a:stretch/>
        </p:blipFill>
        <p:spPr>
          <a:xfrm>
            <a:off x="6802560" y="3024360"/>
            <a:ext cx="2603520" cy="19015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7" descr="C:\Documents and Settings\PonomarevaTA.SZHMAO\Мои документы\Доклады\2010\ГОССОВЕТ ХМ\пожилые фото\г.Когалым\Когалым_ занятия в тренажорном зале КЦСОН Жемчужина.JPG"/>
          <p:cNvPicPr/>
          <p:nvPr/>
        </p:nvPicPr>
        <p:blipFill>
          <a:blip r:embed="rId4"/>
          <a:stretch/>
        </p:blipFill>
        <p:spPr>
          <a:xfrm>
            <a:off x="-268200" y="609480"/>
            <a:ext cx="2730240" cy="1932120"/>
          </a:xfrm>
          <a:prstGeom prst="rect">
            <a:avLst/>
          </a:prstGeom>
          <a:ln w="0">
            <a:noFill/>
          </a:ln>
        </p:spPr>
      </p:pic>
      <p:grpSp>
        <p:nvGrpSpPr>
          <p:cNvPr id="381" name="Группа 3"/>
          <p:cNvGrpSpPr/>
          <p:nvPr/>
        </p:nvGrpSpPr>
        <p:grpSpPr>
          <a:xfrm>
            <a:off x="1247760" y="1008000"/>
            <a:ext cx="6613560" cy="3457800"/>
            <a:chOff x="1247760" y="1008000"/>
            <a:chExt cx="6613560" cy="3457800"/>
          </a:xfrm>
        </p:grpSpPr>
        <p:grpSp>
          <p:nvGrpSpPr>
            <p:cNvPr id="382" name="Группа 1"/>
            <p:cNvGrpSpPr/>
            <p:nvPr/>
          </p:nvGrpSpPr>
          <p:grpSpPr>
            <a:xfrm>
              <a:off x="3031200" y="1528200"/>
              <a:ext cx="2924640" cy="2688480"/>
              <a:chOff x="3031200" y="1528200"/>
              <a:chExt cx="2924640" cy="2688480"/>
            </a:xfrm>
          </p:grpSpPr>
          <p:sp>
            <p:nvSpPr>
              <p:cNvPr id="383" name="Блок-схема: узел 6"/>
              <p:cNvSpPr/>
              <p:nvPr/>
            </p:nvSpPr>
            <p:spPr>
              <a:xfrm>
                <a:off x="3031200" y="1528200"/>
                <a:ext cx="2924640" cy="2688480"/>
              </a:xfrm>
              <a:prstGeom prst="flowChartConnector">
                <a:avLst/>
              </a:prstGeom>
              <a:noFill/>
              <a:ln w="25560">
                <a:solidFill>
                  <a:srgbClr val="b36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grpSp>
            <p:nvGrpSpPr>
              <p:cNvPr id="384" name="Группа 1"/>
              <p:cNvGrpSpPr/>
              <p:nvPr/>
            </p:nvGrpSpPr>
            <p:grpSpPr>
              <a:xfrm>
                <a:off x="3652560" y="2125440"/>
                <a:ext cx="1682280" cy="1429200"/>
                <a:chOff x="3652560" y="2125440"/>
                <a:chExt cx="1682280" cy="1429200"/>
              </a:xfrm>
            </p:grpSpPr>
            <p:grpSp>
              <p:nvGrpSpPr>
                <p:cNvPr id="385" name="Group 12"/>
                <p:cNvGrpSpPr/>
                <p:nvPr/>
              </p:nvGrpSpPr>
              <p:grpSpPr>
                <a:xfrm>
                  <a:off x="3652560" y="2125440"/>
                  <a:ext cx="1682280" cy="1429200"/>
                  <a:chOff x="3652560" y="2125440"/>
                  <a:chExt cx="1682280" cy="1429200"/>
                </a:xfrm>
              </p:grpSpPr>
              <p:sp>
                <p:nvSpPr>
                  <p:cNvPr id="386" name="Oval 16"/>
                  <p:cNvSpPr/>
                  <p:nvPr/>
                </p:nvSpPr>
                <p:spPr>
                  <a:xfrm>
                    <a:off x="3682080" y="2145960"/>
                    <a:ext cx="1618200" cy="1357200"/>
                  </a:xfrm>
                  <a:prstGeom prst="ellipse">
                    <a:avLst/>
                  </a:prstGeom>
                  <a:solidFill>
                    <a:srgbClr val="92d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6262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7" name="Oval 17"/>
                  <p:cNvGrpSpPr/>
                  <p:nvPr/>
                </p:nvGrpSpPr>
                <p:grpSpPr>
                  <a:xfrm>
                    <a:off x="3652560" y="2125440"/>
                    <a:ext cx="1682280" cy="1429200"/>
                    <a:chOff x="3652560" y="2125440"/>
                    <a:chExt cx="1682280" cy="1429200"/>
                  </a:xfrm>
                </p:grpSpPr>
                <p:pic>
                  <p:nvPicPr>
                    <p:cNvPr id="388" name="Oval 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52560" y="2125440"/>
                      <a:ext cx="1682280" cy="142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934440" y="2348640"/>
                      <a:ext cx="1116360" cy="93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0" name="Oval 18"/>
                  <p:cNvSpPr/>
                  <p:nvPr/>
                </p:nvSpPr>
                <p:spPr>
                  <a:xfrm>
                    <a:off x="3716280" y="2167200"/>
                    <a:ext cx="1508040" cy="1236240"/>
                  </a:xfrm>
                  <a:prstGeom prst="ellipse">
                    <a:avLst/>
                  </a:prstGeom>
                  <a:solidFill>
                    <a:srgbClr val="7bcf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6262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Oval 19"/>
                  <p:cNvSpPr/>
                  <p:nvPr/>
                </p:nvSpPr>
                <p:spPr>
                  <a:xfrm>
                    <a:off x="3798720" y="2194560"/>
                    <a:ext cx="1322280" cy="100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bf80">
                          <a:alpha val="38039"/>
                        </a:srgbClr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6262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2" name="Text Box 20"/>
                <p:cNvSpPr/>
                <p:nvPr/>
              </p:nvSpPr>
              <p:spPr>
                <a:xfrm>
                  <a:off x="3785760" y="2440800"/>
                  <a:ext cx="1439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Calibri"/>
                    </a:rPr>
                    <a:t>Социальная </a:t>
                  </a:r>
                  <a:endParaRPr b="0" lang="en-US" sz="1600" spc="-1" strike="noStrike">
                    <a:solidFill>
                      <a:srgbClr val="26262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Calibri"/>
                    </a:rPr>
                    <a:t>реабилитация</a:t>
                  </a:r>
                  <a:endParaRPr b="0" lang="en-US" sz="1600" spc="-1" strike="noStrike">
                    <a:solidFill>
                      <a:srgbClr val="26262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Группа 39"/>
            <p:cNvGrpSpPr/>
            <p:nvPr/>
          </p:nvGrpSpPr>
          <p:grpSpPr>
            <a:xfrm>
              <a:off x="5515200" y="3049560"/>
              <a:ext cx="2219400" cy="663480"/>
              <a:chOff x="5515200" y="3049560"/>
              <a:chExt cx="2219400" cy="663480"/>
            </a:xfrm>
          </p:grpSpPr>
          <p:sp>
            <p:nvSpPr>
              <p:cNvPr id="394" name="Скругленный прямоугольник 40"/>
              <p:cNvSpPr/>
              <p:nvPr/>
            </p:nvSpPr>
            <p:spPr>
              <a:xfrm>
                <a:off x="5515200" y="3049560"/>
                <a:ext cx="2152800" cy="663480"/>
              </a:xfrm>
              <a:prstGeom prst="roundRect">
                <a:avLst>
                  <a:gd name="adj" fmla="val 16667"/>
                </a:avLst>
              </a:prstGeom>
              <a:solidFill>
                <a:srgbClr val="f4891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395" name="Скругленный прямоугольник 4"/>
              <p:cNvSpPr/>
              <p:nvPr/>
            </p:nvSpPr>
            <p:spPr>
              <a:xfrm>
                <a:off x="5543640" y="3082680"/>
                <a:ext cx="219096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1 центр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помощи семье и детям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396" name="Группа 42"/>
            <p:cNvGrpSpPr/>
            <p:nvPr/>
          </p:nvGrpSpPr>
          <p:grpSpPr>
            <a:xfrm>
              <a:off x="3456000" y="3827520"/>
              <a:ext cx="2155680" cy="638280"/>
              <a:chOff x="3456000" y="3827520"/>
              <a:chExt cx="2155680" cy="638280"/>
            </a:xfrm>
          </p:grpSpPr>
          <p:sp>
            <p:nvSpPr>
              <p:cNvPr id="397" name="Скругленный прямоугольник 43"/>
              <p:cNvSpPr/>
              <p:nvPr/>
            </p:nvSpPr>
            <p:spPr>
              <a:xfrm>
                <a:off x="3456000" y="3827520"/>
                <a:ext cx="2155680" cy="638280"/>
              </a:xfrm>
              <a:prstGeom prst="roundRect">
                <a:avLst>
                  <a:gd name="adj" fmla="val 16667"/>
                </a:avLst>
              </a:prstGeom>
              <a:solidFill>
                <a:srgbClr val="f4891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398" name="Скругленный прямоугольник 4"/>
              <p:cNvSpPr/>
              <p:nvPr/>
            </p:nvSpPr>
            <p:spPr>
              <a:xfrm>
                <a:off x="3490920" y="3859200"/>
                <a:ext cx="208584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1 центр социального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обслуживания населения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399" name="Группа 45"/>
            <p:cNvGrpSpPr/>
            <p:nvPr/>
          </p:nvGrpSpPr>
          <p:grpSpPr>
            <a:xfrm>
              <a:off x="1247760" y="1950120"/>
              <a:ext cx="2231640" cy="914400"/>
              <a:chOff x="1247760" y="1950120"/>
              <a:chExt cx="2231640" cy="914400"/>
            </a:xfrm>
          </p:grpSpPr>
          <p:sp>
            <p:nvSpPr>
              <p:cNvPr id="400" name="Скругленный прямоугольник 46"/>
              <p:cNvSpPr/>
              <p:nvPr/>
            </p:nvSpPr>
            <p:spPr>
              <a:xfrm>
                <a:off x="1247760" y="1950120"/>
                <a:ext cx="223164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4891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401" name="Скругленный прямоугольник 4"/>
              <p:cNvSpPr/>
              <p:nvPr/>
            </p:nvSpPr>
            <p:spPr>
              <a:xfrm>
                <a:off x="1268280" y="1972080"/>
                <a:ext cx="21618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5 стационарных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организаций социального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обслуживания населения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402" name="Группа 48"/>
            <p:cNvGrpSpPr/>
            <p:nvPr/>
          </p:nvGrpSpPr>
          <p:grpSpPr>
            <a:xfrm>
              <a:off x="5416920" y="1907640"/>
              <a:ext cx="2444400" cy="914400"/>
              <a:chOff x="5416920" y="1907640"/>
              <a:chExt cx="2444400" cy="914400"/>
            </a:xfrm>
          </p:grpSpPr>
          <p:sp>
            <p:nvSpPr>
              <p:cNvPr id="403" name="Скругленный прямоугольник 49"/>
              <p:cNvSpPr/>
              <p:nvPr/>
            </p:nvSpPr>
            <p:spPr>
              <a:xfrm>
                <a:off x="5416920" y="1907640"/>
                <a:ext cx="244440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4891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404" name="Скругленный прямоугольник 4"/>
              <p:cNvSpPr/>
              <p:nvPr/>
            </p:nvSpPr>
            <p:spPr>
              <a:xfrm>
                <a:off x="5453280" y="1951920"/>
                <a:ext cx="2371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10 реабилитационных центров для детей и подростков с ограниченными возможностями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405" name="Группа 51"/>
            <p:cNvGrpSpPr/>
            <p:nvPr/>
          </p:nvGrpSpPr>
          <p:grpSpPr>
            <a:xfrm>
              <a:off x="3450240" y="1008000"/>
              <a:ext cx="2144880" cy="784440"/>
              <a:chOff x="3450240" y="1008000"/>
              <a:chExt cx="2144880" cy="784440"/>
            </a:xfrm>
          </p:grpSpPr>
          <p:sp>
            <p:nvSpPr>
              <p:cNvPr id="406" name="Скругленный прямоугольник 52"/>
              <p:cNvSpPr/>
              <p:nvPr/>
            </p:nvSpPr>
            <p:spPr>
              <a:xfrm>
                <a:off x="3450240" y="1008000"/>
                <a:ext cx="2144880" cy="784440"/>
              </a:xfrm>
              <a:prstGeom prst="roundRect">
                <a:avLst>
                  <a:gd name="adj" fmla="val 16667"/>
                </a:avLst>
              </a:prstGeom>
              <a:solidFill>
                <a:srgbClr val="f4891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407" name="Скругленный прямоугольник 4"/>
              <p:cNvSpPr/>
              <p:nvPr/>
            </p:nvSpPr>
            <p:spPr>
              <a:xfrm>
                <a:off x="3478680" y="1045800"/>
                <a:ext cx="2088000" cy="7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20 комплексных центров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социального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обслуживания населения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408" name="Группа 54"/>
            <p:cNvGrpSpPr/>
            <p:nvPr/>
          </p:nvGrpSpPr>
          <p:grpSpPr>
            <a:xfrm>
              <a:off x="1407960" y="3092760"/>
              <a:ext cx="2071440" cy="653040"/>
              <a:chOff x="1407960" y="3092760"/>
              <a:chExt cx="2071440" cy="653040"/>
            </a:xfrm>
          </p:grpSpPr>
          <p:sp>
            <p:nvSpPr>
              <p:cNvPr id="409" name="Скругленный прямоугольник 55"/>
              <p:cNvSpPr/>
              <p:nvPr/>
            </p:nvSpPr>
            <p:spPr>
              <a:xfrm>
                <a:off x="1407960" y="3092760"/>
                <a:ext cx="2071440" cy="653040"/>
              </a:xfrm>
              <a:prstGeom prst="roundRect">
                <a:avLst>
                  <a:gd name="adj" fmla="val 16667"/>
                </a:avLst>
              </a:prstGeom>
              <a:solidFill>
                <a:srgbClr val="f4891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410" name="Скругленный прямоугольник 4"/>
              <p:cNvSpPr/>
              <p:nvPr/>
            </p:nvSpPr>
            <p:spPr>
              <a:xfrm>
                <a:off x="1415880" y="3116520"/>
                <a:ext cx="20066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1 социально-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ffffff"/>
                    </a:solidFill>
                    <a:latin typeface="Calibri"/>
                  </a:rPr>
                  <a:t>оздоровительный центр</a:t>
                </a:r>
                <a:endParaRPr b="0" lang="en-US" sz="1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Группа 63"/>
          <p:cNvGrpSpPr/>
          <p:nvPr/>
        </p:nvGrpSpPr>
        <p:grpSpPr>
          <a:xfrm>
            <a:off x="3135240" y="4548240"/>
            <a:ext cx="2799000" cy="1746360"/>
            <a:chOff x="3135240" y="4548240"/>
            <a:chExt cx="2799000" cy="1746360"/>
          </a:xfrm>
        </p:grpSpPr>
        <p:sp>
          <p:nvSpPr>
            <p:cNvPr id="412" name="AutoShape 69"/>
            <p:cNvSpPr/>
            <p:nvPr/>
          </p:nvSpPr>
          <p:spPr>
            <a:xfrm>
              <a:off x="3153960" y="4995720"/>
              <a:ext cx="2780280" cy="129888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1908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262626"/>
                  </a:solidFill>
                  <a:latin typeface="Calibri"/>
                </a:rPr>
                <a:t>Полустационарное </a:t>
              </a:r>
              <a:br>
                <a:rPr sz="1500"/>
              </a:br>
              <a:r>
                <a:rPr b="0" lang="ru-RU" sz="1500" spc="-1" strike="noStrike">
                  <a:solidFill>
                    <a:srgbClr val="262626"/>
                  </a:solidFill>
                  <a:latin typeface="Calibri"/>
                </a:rPr>
                <a:t>обслуживание </a:t>
              </a:r>
              <a:endParaRPr b="0" lang="en-US" sz="1500" spc="-1" strike="noStrike">
                <a:solidFill>
                  <a:srgbClr val="26262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262626"/>
                  </a:solidFill>
                  <a:latin typeface="Calibri"/>
                </a:rPr>
                <a:t>             </a:t>
              </a: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2016 год – 27 772 человека</a:t>
              </a:r>
              <a:endParaRPr b="0" lang="en-US" sz="1300" spc="-1" strike="noStrike">
                <a:solidFill>
                  <a:srgbClr val="26262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I полугодие 2017 года – </a:t>
              </a:r>
              <a:br>
                <a:rPr sz="1300"/>
              </a:br>
              <a:r>
                <a:rPr b="0" lang="ru-RU" sz="1300" spc="-1" strike="noStrike">
                  <a:solidFill>
                    <a:srgbClr val="262626"/>
                  </a:solidFill>
                  <a:latin typeface="Calibri"/>
                </a:rPr>
                <a:t>13 566 человека</a:t>
              </a:r>
              <a:endParaRPr b="0" lang="en-US" sz="1300" spc="-1" strike="noStrike">
                <a:solidFill>
                  <a:srgbClr val="262626"/>
                </a:solidFill>
                <a:latin typeface="Arial"/>
              </a:endParaRPr>
            </a:p>
          </p:txBody>
        </p:sp>
        <p:grpSp>
          <p:nvGrpSpPr>
            <p:cNvPr id="413" name="Group 71"/>
            <p:cNvGrpSpPr/>
            <p:nvPr/>
          </p:nvGrpSpPr>
          <p:grpSpPr>
            <a:xfrm>
              <a:off x="3135240" y="4548240"/>
              <a:ext cx="565920" cy="951120"/>
              <a:chOff x="3135240" y="4548240"/>
              <a:chExt cx="565920" cy="951120"/>
            </a:xfrm>
          </p:grpSpPr>
          <p:sp>
            <p:nvSpPr>
              <p:cNvPr id="414" name="Freeform 72"/>
              <p:cNvSpPr/>
              <p:nvPr/>
            </p:nvSpPr>
            <p:spPr>
              <a:xfrm>
                <a:off x="3285360" y="4548240"/>
                <a:ext cx="262440" cy="2538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solidFill>
                  <a:srgbClr val="f7f161"/>
                </a:solidFill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415" name="Freeform 73"/>
              <p:cNvSpPr/>
              <p:nvPr/>
            </p:nvSpPr>
            <p:spPr>
              <a:xfrm>
                <a:off x="3135240" y="4809960"/>
                <a:ext cx="565920" cy="68940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solidFill>
                  <a:srgbClr val="f7f161"/>
                </a:solidFill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государственный сектор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0D1B-8836-4D56-BC7F-BB28E97EAC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418" name="Группа 7"/>
          <p:cNvGrpSpPr/>
          <p:nvPr/>
        </p:nvGrpSpPr>
        <p:grpSpPr>
          <a:xfrm>
            <a:off x="-2115000" y="1247760"/>
            <a:ext cx="10760400" cy="4410000"/>
            <a:chOff x="-2115000" y="1247760"/>
            <a:chExt cx="10760400" cy="4410000"/>
          </a:xfrm>
        </p:grpSpPr>
        <p:sp>
          <p:nvSpPr>
            <p:cNvPr id="419" name="AutoShape 91"/>
            <p:cNvSpPr/>
            <p:nvPr/>
          </p:nvSpPr>
          <p:spPr>
            <a:xfrm rot="5400000">
              <a:off x="-2164680" y="1297440"/>
              <a:ext cx="4410000" cy="4310280"/>
            </a:xfrm>
            <a:custGeom>
              <a:avLst/>
              <a:gdLst>
                <a:gd name="textAreaLeft" fmla="*/ 82080 w 4410000"/>
                <a:gd name="textAreaRight" fmla="*/ 4327920 w 4410000"/>
                <a:gd name="textAreaTop" fmla="*/ 0 h 4310280"/>
                <a:gd name="textAreaBottom" fmla="*/ 2719800 h 43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20" name="AutoShape 115"/>
            <p:cNvSpPr/>
            <p:nvPr/>
          </p:nvSpPr>
          <p:spPr>
            <a:xfrm>
              <a:off x="1260360" y="1446120"/>
              <a:ext cx="6527880" cy="452160"/>
            </a:xfrm>
            <a:prstGeom prst="roundRect">
              <a:avLst>
                <a:gd name="adj" fmla="val 3978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предоставление услуг по постороннему уходу за инвалидами, детьми-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инвалидами на дому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21" name="AutoShape 115"/>
            <p:cNvSpPr/>
            <p:nvPr/>
          </p:nvSpPr>
          <p:spPr>
            <a:xfrm>
              <a:off x="1476360" y="4653000"/>
              <a:ext cx="6789600" cy="502920"/>
            </a:xfrm>
            <a:prstGeom prst="roundRect">
              <a:avLst>
                <a:gd name="adj" fmla="val 3978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персональное сопровождение инвалидов («Интеграционный консультант»)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22" name="AutoShape 115"/>
            <p:cNvSpPr/>
            <p:nvPr/>
          </p:nvSpPr>
          <p:spPr>
            <a:xfrm>
              <a:off x="1944720" y="2347920"/>
              <a:ext cx="6700680" cy="669960"/>
            </a:xfrm>
            <a:prstGeom prst="roundRect">
              <a:avLst>
                <a:gd name="adj" fmla="val 32986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предоставление услуг по постоянному постороннему уходу за одинокими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инвалидами в частных пансионатах «Резиденция для пожилых»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23" name="AutoShape 115"/>
            <p:cNvSpPr/>
            <p:nvPr/>
          </p:nvSpPr>
          <p:spPr>
            <a:xfrm>
              <a:off x="1947600" y="3571920"/>
              <a:ext cx="6546960" cy="504720"/>
            </a:xfrm>
            <a:prstGeom prst="roundRect">
              <a:avLst>
                <a:gd name="adj" fmla="val 3978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социальная реабилитация детей-инвалидов,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Calibri"/>
                </a:rPr>
                <a:t>граждан с нарушением/потерей речи вследствие заболевания, травмы</a:t>
              </a:r>
              <a:endParaRPr b="0" lang="en-US" sz="1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424" name="Picture 4" descr=""/>
            <p:cNvPicPr/>
            <p:nvPr/>
          </p:nvPicPr>
          <p:blipFill>
            <a:blip r:embed="rId1"/>
            <a:stretch/>
          </p:blipFill>
          <p:spPr>
            <a:xfrm>
              <a:off x="-11160" y="1699920"/>
              <a:ext cx="1780920" cy="350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0:18:52Z</dcterms:created>
  <dc:creator/>
  <dc:description/>
  <dc:language>en-US</dc:language>
  <cp:lastModifiedBy/>
  <dcterms:modified xsi:type="dcterms:W3CDTF">2017-09-25T12:56:13Z</dcterms:modified>
  <cp:revision>15</cp:revision>
  <dc:subject/>
  <dc:title>Социальное обеспечение семей, имеющих детей-инвалидов</dc:title>
</cp:coreProperties>
</file>